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13320713" cy="8297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B05E-744E-4582-844C-49B3C7FCB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9A88-BAB8-4242-A281-ACDDF02E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E6158-8E55-4C4A-B00A-3BB49BA4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F7A6A-2A8D-417B-9403-A368B556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44E79-72B6-4D27-80F0-E71A032E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50104-2076-4240-A544-757716A6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B1F54-FBF0-4B42-A1D6-D03E4299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B5972-4240-4A99-BF96-604BFA2C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242D1F-FEE7-4861-95C6-14BA9B29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CCC5C-2833-408E-B95F-6691CF7E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CE620D-D3F6-4643-B91E-429C4249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A7980-17FC-4AE1-956A-2A83E9060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D1F5-F6C7-4BFB-A95E-0A7CF3412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7BDCB-D356-48B0-B391-65B3528C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4AB86-6DD6-430C-A6BB-263DCEFA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ADBDE-91DF-47D4-B78B-C09B56C5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C92103-7C73-4AE8-A21C-AC91BD8A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5F43B-8B21-4FB7-B792-46E8C40A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E12739-DC06-479A-A097-41F8C2B3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E1683F-B093-4966-93BB-20A6CFF1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CCE34-43AC-477E-8D7E-DFBB0DC0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BEE9F-38AB-4DF3-9156-ED34418C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5D9B2B-41C7-4EF9-B9C0-47A2EC193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B2B6-5683-4F06-B529-3CEF26D3B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1D8BC2-5252-48D7-B0E6-098C7F9E1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D9A81-2A65-40C9-A66E-C61E10062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43C6E-BE35-4F05-A1EF-421C5A3A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58E5A-57CA-4519-A7F6-914C4E5F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700F7-DD57-4F8D-9EA9-065CA2C6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4CD30-92FB-47CE-9A36-6B56B23E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46EA0-BC4C-427C-A7CE-81DE8B98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00517-1902-4E0D-BCF7-D4A42226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F9142-78E4-4338-A98B-A33BD9CF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4AF1D-B20E-4BB2-B285-EB51A0C3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4A68-D67E-43D9-BABA-C3337D47D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9E14C-AD62-45FB-B876-9C04E69F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44E0A-AB5C-4CEE-9D03-6B14A7C2F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18BCB9-26E2-49CB-87FF-3094B0918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86C20C-E156-4810-B8B7-CFEDEE553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47D439-DA63-41F8-9F90-F066D055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389EE1-9316-4493-9885-F2838EAE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260BFF-6A66-41D4-8075-713078A4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49A264-AEDA-4F76-A7E2-9ABF6E57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999B48-0E9B-4D5C-8CF7-159F68B4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5A926-79C7-4F78-A393-3A2B20A3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202F-1496-48F6-A8DA-E78E7443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FFB3EF-8212-4E1F-92F9-4D4ED9BA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FE4884-E2C4-4FD3-894B-2EE80714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F0BDA5-6808-4A86-89B2-69D2850D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032553-4A0A-4F2C-B66F-43D5C8BC8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11273D-89D7-41C1-B86C-EE54B10E5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CA431C-9618-4EA1-9C8E-515236F71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4699EC-1408-4B98-AD9C-52139643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D31527-5B45-4D6C-8A79-14B6A57E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1C3EDA-80F8-4CFF-8458-8114F000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5B9172-8E28-4EE1-A3BD-B2392E41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0D9F-04C9-453A-ADE1-1D0B4BE2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E5525E-8EE9-41BB-A0A0-F5065815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601365-2645-48A4-832E-CF7A3A57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1278A8-0BEB-4046-9446-4CB7E614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6FB0E7-4073-4FCD-906E-BA482ACA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5374B2-B57C-4084-95ED-9381C8CA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D82131-942E-4B3C-A826-47F3790A1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013EDA-F83B-45E8-BB0B-A256661C8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799B-600C-483F-8AB6-F3C1D112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104A-336D-4682-AA2B-A28E22A9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DD2F-6841-47BD-8E9B-7CC28EEB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5F60-2E89-4431-A541-1B738572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11C7-374F-4C3B-9090-BF6AE8C4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6058-7488-4E19-90BD-19966F7E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06DC-39DD-40EF-AB33-FC25BC5F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5827-7795-4F3C-9CFA-E821673D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6DEF-AE9A-4694-A9A6-8E2FA8919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5ECF-E668-471E-BC5D-180368F5B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24CA7-EC10-4703-9D97-CFF599D8D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4C1A7-0986-41B5-B8DD-F6232DB0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52C4F-760B-4607-A5DB-9DEEA7B1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73896-5C98-4696-AF70-F5BB2420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FC40C-9F3E-46D1-B8B0-10632A42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B8D8-A477-44AA-A641-ED443C94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83470-50EE-43CE-9764-56BB2E94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5ABFC-E8B1-42BC-ACED-04A836AA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94042-E7F6-4DB4-B078-CD342287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25640-360E-44D3-99C7-702178AB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AB2B1-82A9-469D-9E37-BEA5ED82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FD4C8-5C6D-4A39-8EE6-B4C1A1215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C0912-EE98-480D-874E-E87ACB8C6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8504B-AE99-478C-920B-C7BAB2CB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D960E-2955-4FE6-BA74-9FA4D2EC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E27FF-1ABB-4F2C-BA0A-7166ABD6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7817-75E3-4EEC-95E2-9FB76254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52141-34D0-46B7-88AA-9E3C87E0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AA246-680D-4D89-81AC-1FE1C1AF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5C7F4-6F49-4F18-AFA6-582FA2E1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830B0-7A35-46AB-B356-E4A561B8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FD4DA-AE79-4D96-A788-4C1A6CF8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52DB6-30C8-4B6C-B362-3411E2CF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9A72C-95FB-4ED6-8FA0-3994B3D0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04601-7F91-4D41-AB61-4F6CE4088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5D61A-326F-4B95-A2E6-318B5A477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7279A-CAE5-492F-9B63-A3E41DA74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AD34-E8AB-452F-8C4E-2CCC7702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B881E-AD67-4C73-B095-52BA7A48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06012-FA46-47CF-B7C6-ACA54A9E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FF06D-3C8F-4418-9798-0151ED60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47AAF-DC57-4965-8E8B-6F12C8B4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109E8-7544-4169-9DAA-594C0929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273B0-A5FE-4467-9F75-44DB6C29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461D7-CB8D-4532-964B-46F7324F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4697C-34DF-4A98-9DF1-19985BDB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860D0-F1A1-4F4C-A1AE-13A9E0A3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8FB84-3AFF-479F-BB7F-58AF9DAF7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E2B5-C27B-4BEA-B872-D30AEC36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F3BC1-4FD4-4E92-B3BA-D42E1C6B5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E6FDE-0045-43DA-94A6-3486997E4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1714E-2BEC-450D-86D3-7508C64B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55BC4-1EDF-4AAD-A03A-F3541C84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EA309-7B83-456A-9B24-E12861DC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CB3A4-E2D6-4CD4-8282-9E222F62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AAD04-244F-48E1-9577-4298E1F4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0EF16-65B7-49A5-A913-D2648084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838B2-C20A-414D-A5D1-01A2B22A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883E5-F84A-4A8F-AF47-99A1E0C2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6CFD-8DD8-42DA-A439-7538A884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5EC46-3C32-4D0D-A1A2-3A235A2C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E3A7D-6FCD-4409-960D-847430C5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CC344-B764-45C3-B8E4-E33F72DEF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6D50E-6036-45C8-8D5E-1E54077CF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047B0-39AE-4200-9812-1BE2F066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B6A19-40F9-4779-930A-DEDEC900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5E802-E03B-42A8-A642-D79EABA3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8DAF9-9A56-4B9D-B428-15C8C477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4171E-FA55-4BCE-9417-7E835E29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E2299-B4F3-4265-BE91-2AF21C76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DB44-F1E9-4124-A823-E92DE3C6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7A839-6915-4FC5-89FC-EA743DAC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7D8BE-C44C-4FA8-AA84-1BB2CA78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1CD6B-A585-4CE7-9079-3768B1CB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7F4B1-0F6E-4F63-9219-18CF53557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86AFB-EB09-4738-84DC-8544DAC46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B420A-FD34-473B-9251-EAEE760B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F2608-4A34-460D-BAE2-01A93548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8D2EB-4E09-4A4E-93C2-E515B03F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CDD3A-778F-4727-9BF3-864A9105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5337C-70D6-49EF-ABE4-8C21FD75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7BC3-557F-4094-A584-49BDBBA1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EAC59-BB7E-46D7-846B-CE94D614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8292C-16D3-46D4-8B0D-A80B67B5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9A18D-3B1F-4DEA-BA0E-58E91D5A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F2E38-B422-4064-AD4F-F82410D9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36B5D-FBA2-48C9-8B80-0BA85FAD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2A675-0E42-4A81-842A-36864E026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01EAB-4E8E-492C-81E6-AAFE862E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6A56B-3E7F-45F4-A485-A455CD71C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D191D-69DA-40F2-80C0-DFC54837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5CBBC-ADD9-404F-AE37-5DD1EAD3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0F2E4B-B4CD-4E14-B6F3-EF565AFF4C61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Freeform 6"/>
          <p:cNvGrpSpPr/>
          <p:nvPr/>
        </p:nvGrpSpPr>
        <p:grpSpPr>
          <a:xfrm>
            <a:off x="673200" y="1295280"/>
            <a:ext cx="6946920" cy="3949920"/>
            <a:chOff x="673200" y="1295280"/>
            <a:chExt cx="6946920" cy="3949920"/>
          </a:xfrm>
        </p:grpSpPr>
        <p:pic>
          <p:nvPicPr>
            <p:cNvPr id="391" name="Freeform 6" descr=""/>
            <p:cNvPicPr/>
            <p:nvPr/>
          </p:nvPicPr>
          <p:blipFill>
            <a:blip r:embed="rId2"/>
            <a:stretch/>
          </p:blipFill>
          <p:spPr>
            <a:xfrm>
              <a:off x="673200" y="1295280"/>
              <a:ext cx="6946920" cy="39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690480" y="1308240"/>
              <a:ext cx="6918480" cy="39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09EC69-D62F-463A-A6C0-9EAEED37FBC8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Freeform 6"/>
          <p:cNvGrpSpPr/>
          <p:nvPr/>
        </p:nvGrpSpPr>
        <p:grpSpPr>
          <a:xfrm>
            <a:off x="1231920" y="2755800"/>
            <a:ext cx="5371920" cy="3048120"/>
            <a:chOff x="1231920" y="2755800"/>
            <a:chExt cx="5371920" cy="3048120"/>
          </a:xfrm>
        </p:grpSpPr>
        <p:pic>
          <p:nvPicPr>
            <p:cNvPr id="435" name="Freeform 6" descr=""/>
            <p:cNvPicPr/>
            <p:nvPr/>
          </p:nvPicPr>
          <p:blipFill>
            <a:blip r:embed="rId2"/>
            <a:stretch/>
          </p:blipFill>
          <p:spPr>
            <a:xfrm>
              <a:off x="1231920" y="2755800"/>
              <a:ext cx="537192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1246320" y="2766960"/>
              <a:ext cx="5348160" cy="30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758C03-5679-4E63-9952-B2DBE70ADA84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479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AE826D-D27F-4BEB-AC93-1D96D540ABD6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Freeform 6"/>
          <p:cNvGrpSpPr/>
          <p:nvPr/>
        </p:nvGrpSpPr>
        <p:grpSpPr>
          <a:xfrm>
            <a:off x="8369280" y="533520"/>
            <a:ext cx="4965840" cy="6565680"/>
            <a:chOff x="8369280" y="533520"/>
            <a:chExt cx="4965840" cy="6565680"/>
          </a:xfrm>
        </p:grpSpPr>
        <p:pic>
          <p:nvPicPr>
            <p:cNvPr id="523" name="Freeform 6" descr=""/>
            <p:cNvPicPr/>
            <p:nvPr/>
          </p:nvPicPr>
          <p:blipFill>
            <a:blip r:embed="rId2"/>
            <a:stretch/>
          </p:blipFill>
          <p:spPr>
            <a:xfrm>
              <a:off x="8369280" y="533520"/>
              <a:ext cx="4965840" cy="65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8380440" y="539640"/>
              <a:ext cx="4940280" cy="65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906FD8-B7A4-42F6-90BA-FA1AD6F27363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reeform 6"/>
          <p:cNvGrpSpPr/>
          <p:nvPr/>
        </p:nvGrpSpPr>
        <p:grpSpPr>
          <a:xfrm>
            <a:off x="-12600" y="-12600"/>
            <a:ext cx="13347720" cy="6311880"/>
            <a:chOff x="-12600" y="-12600"/>
            <a:chExt cx="13347720" cy="6311880"/>
          </a:xfrm>
        </p:grpSpPr>
        <p:pic>
          <p:nvPicPr>
            <p:cNvPr id="4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1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-324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E752A3-A416-4C40-9384-EFAB68376D8E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86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80701D-828D-4C43-9910-03781CF456FA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Freeform 7"/>
          <p:cNvGrpSpPr/>
          <p:nvPr/>
        </p:nvGrpSpPr>
        <p:grpSpPr>
          <a:xfrm>
            <a:off x="-12600" y="-12600"/>
            <a:ext cx="13347720" cy="6324480"/>
            <a:chOff x="-12600" y="-12600"/>
            <a:chExt cx="13347720" cy="6324480"/>
          </a:xfrm>
        </p:grpSpPr>
        <p:pic>
          <p:nvPicPr>
            <p:cNvPr id="130" name="Freeform 7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0" y="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B2E1D4-5795-49A1-AD4B-F48F199D581A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174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DD39C9-73D0-428B-A2C0-BA2AF8DB10CB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18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DCD910-2E1E-4007-933F-3E0DD476814E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6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4B0EC1-6469-4259-BDBD-5CBD397951F4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Freeform 6"/>
          <p:cNvGrpSpPr/>
          <p:nvPr/>
        </p:nvGrpSpPr>
        <p:grpSpPr>
          <a:xfrm>
            <a:off x="1155600" y="533520"/>
            <a:ext cx="3899160" cy="2222280"/>
            <a:chOff x="1155600" y="533520"/>
            <a:chExt cx="3899160" cy="2222280"/>
          </a:xfrm>
        </p:grpSpPr>
        <p:pic>
          <p:nvPicPr>
            <p:cNvPr id="306" name="Freeform 6" descr=""/>
            <p:cNvPicPr/>
            <p:nvPr/>
          </p:nvPicPr>
          <p:blipFill>
            <a:blip r:embed="rId2"/>
            <a:stretch/>
          </p:blipFill>
          <p:spPr>
            <a:xfrm>
              <a:off x="1155600" y="533520"/>
              <a:ext cx="3899160" cy="22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173240" y="539640"/>
              <a:ext cx="387504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5BFDCD-3EDA-44B3-BCE4-823118BF575F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4244760" y="7310520"/>
            <a:ext cx="106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644400" y="7310520"/>
            <a:ext cx="36007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531324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0E0658-55DA-4A73-BB29-45ACD1CE2DE5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73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PPT file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8T12:56:11Z</dcterms:created>
  <dc:creator>Johannes Nussbaum</dc:creator>
  <dc:description/>
  <dc:language>en-US</dc:language>
  <cp:lastModifiedBy>Johannes Nussbaum</cp:lastModifiedBy>
  <dcterms:modified xsi:type="dcterms:W3CDTF">2022-08-10T13:13:30Z</dcterms:modified>
  <cp:revision>18</cp:revision>
  <dc:subject/>
  <dc:title>DaSCH,  Swiss National Data &amp; Service Center for the Humanities </dc:title>
</cp:coreProperties>
</file>