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</p:sldIdLst>
  <p:sldSz cx="13320713" cy="82978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9A36-F2F5-4D52-9220-13E026F2C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02A5-0634-4F26-924D-7876532C3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64CD52-2259-4DE1-A6ED-6CACB1667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CF7FB5-AA97-476E-98E7-93827C654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3F337D-11CB-41F1-96E4-4E77F4897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3472B0-4FD0-49E5-9B28-6E252DCE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560AE7-8064-40D2-A037-8341261F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028FF6-6827-41B1-85D2-24A7824B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B52A38-9CFE-490C-A327-A65CBEE65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6BD5ED-9CF5-4ACB-964D-2A721E4EC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276243-EAC6-4E19-B9B6-1548E7641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30C402-736D-4BCD-BB2D-FDC33188C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EBA6-89BE-4E66-A1E0-9DC4A7C4A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79693E-01C5-416D-A408-6B62AD4CF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E650DC-58E7-492A-89E4-B39474ACC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762F2C-03E9-4892-B237-E6684802B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FB5402-0B08-4258-A6CC-35F2CBDC2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291969-D271-48CB-A9D7-37BE23C0D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C07920-A659-4524-8D9F-4F88FF4D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43CE10-2618-45E5-8784-1495E731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D389E6-5663-4638-9E45-CE7BEEBC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EB465D-C0FF-4BC9-B7BE-D099A84F4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77ADD2-7270-49C5-89B1-D1CCE57B9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3B61-EBF1-45A8-BE06-78B0080EA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6C275A-9854-4BAB-804F-F95ACEA4C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3A0F77-D269-4116-9728-0397D0176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2A3007-D066-4132-97E0-778CBF560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1BE765-AB05-4F24-934B-3953C23DA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ACA092-A372-481B-8CC2-ED76CB6A3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68E49F-FE39-4A63-B32C-305C22502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D0845F-C7FE-4801-847F-F08AB0895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161194-1DEF-4AB1-90E6-6841FC99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DFE40A-6798-4F95-A96A-745C2552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D4A9BD-2402-435C-8426-2B45290F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A2B72-743E-43D5-8011-943B64AAC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773A9F-1709-41FB-A37E-B871BC8B7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1CC181-0843-47A5-94E1-4E72D542E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FE01AD-0C89-498E-9F80-1EAF9800A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EC149C-787B-4E0D-9BC4-7FABDF5C2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331EC5-8856-4415-8567-AE34DD5D3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4452DD-7508-482D-A8F6-A9D83A732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112C0F-4590-4EB2-B286-A53BA8952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73D6E3-BAC5-422F-8A4F-417C74A2C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74AF3E-E0A7-479F-A761-0E65E7017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EC38E2-78DB-4EA0-9682-B46DEEC1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409A9-1435-4AAE-92AA-79AADB0AB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2F3EF7-3F29-4063-A6E3-EFDD359C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E3ABF2-1FC3-4AEF-A6B1-007F4472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1FD223-E8C8-4FBF-B695-9396BF411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4C1197-97A5-46EC-90B3-86705A58D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D9AB90-F2BE-4AFA-9AA6-70A196884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010CA0-154A-487B-9042-D55B4FF40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CC09F3-3F11-471D-917A-7B1566BEC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A87793-F705-4F31-ACDF-3BDFE735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D2F4FF-10C3-4198-82D6-843872BB2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27CD0D-A198-4EF8-A2B3-076894ACC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9E701-3146-4354-8D8A-918E3CFE1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C69CC4-0EFB-4F81-900E-167D6706C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AD0069-B45C-40F0-BA38-2AC2228E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2B83A6-CE4A-438D-8798-5B138EFE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1A132C-F2A5-4690-9D97-0FB445EB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054D44-BC68-4E08-9943-E0C85AF98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A6F627-6576-402A-AD9D-EDDDF1F85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3B7E34-DEF3-4FAC-AB80-7B3F36C80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0DDFD-E73B-472D-9412-96B8845AF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F74B8-1EA6-40C4-A937-F68CA8DC5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E71BA-7967-4D34-B9FF-BF1AA1D6D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616DF-719D-48DD-A631-184C1A90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849F-4038-4E8D-82FA-E23891816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29ED3-922A-411B-99CA-68383DC3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F47C4-BCCF-4C96-BB85-D4879927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12201-E22E-4541-B479-A04DCAF96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BF9AE-6F18-46A2-9FEC-8D03C3441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569D7-BC38-4D83-B51C-134BC8F2D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73B2D-0C1E-4400-B9D9-AE2598811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BB80B-CC10-4D41-80AE-B0499FE0A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9BB91-AB61-49A2-A972-EBF6F0CC7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7113C-3629-4742-ACDF-7A0665D2D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251F3-0DBC-4891-9B1A-61D1675AA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5328-097E-4476-8903-88E5F4D04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AC35F-EE56-42AC-AE7A-978DCC9E6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3C2A5-F584-4A85-ACBE-ADDA851E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326F8-8976-476A-900C-D6173FD2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120F9-5D1D-4CA9-9216-FE2DF8AD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7C187-79AA-4643-A56B-D247CCAE6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C7DE6-9D03-414C-B81B-335C87746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2D370-C2DE-4803-B36E-493C58FC1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95A20-376F-46B0-843D-5C13FB077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0D79A-3FD3-4A04-B4ED-798E71A37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2910F-02EC-433E-B10A-CB6C7D885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6503-D3D6-4A37-8F68-46A6CF57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8072E-2256-4FAE-B99E-0EF785668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52C83-420E-4A0C-858B-0D08F579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F7534-B4F0-4D81-BEB8-0719ED5BC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6BBF1-D2A4-48CD-BBD5-FF123EBF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5AD2B-D9C7-4243-B8F9-40BF10BA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47F77-153F-4DDB-B4FF-B4224C4B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13CD8-D368-4F54-9D46-9DCDB78A1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74EEE-B098-4CEE-82B2-78551A1E2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442F2-DBB1-4EAD-88E6-CCC5E358E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5346E-5960-460F-A634-563F9DA1A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9D8F-271E-433D-8E5F-03879745F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9D897-3BEE-433A-9801-3B7306969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B4798-903C-49CE-B27C-5F9802B07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1EA26-1D1F-4E43-BF29-3F8347F3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6B220-E633-4ED9-ADC1-28796EE85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B6FAF-F00E-4C4E-8607-663892910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D0AF8-6A4A-48CE-82A6-F28B82BF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E45FC-C153-4F3E-B5A0-2D6EEE60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535FA-53E1-4C42-8705-606DFA86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10FD7-E0EF-4B15-A9A1-DC8F200AD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3A675-B0D3-44E2-8FB2-161A40729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EF5D-33E6-44CB-9245-D9C06F29F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72BB5-4528-45FD-B0D0-55CBCAB07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5A131-5E84-4246-AE4A-71CE67581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4C449-F1EF-47E7-8010-B6CE5F745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D8208-BE2A-4B0D-9560-6581EDACB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550FD-79F3-4D14-86AA-F0C1BF0D4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9D8C4F-6A36-483C-BEE4-228ADB2EF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4A4E4-5E10-4AD1-B58E-4C8E158BB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D39FAB-3B8E-4A2D-BAB3-9B7A6846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08D0E-C61A-45BF-AC6D-61DB6F2A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A2617-FFBD-4ADB-A20F-CACEC71A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46B9-06E4-4175-A2B9-38584E72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EE3D4-B947-43A1-A3EA-90FACEB23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CE23C-F2B3-4E83-B190-D3833C38B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FE845-E299-4B1F-9086-D21865CCA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04D4A3-3434-47CF-9661-6F8DA7A33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BB8FF-9ECB-4E4F-A293-96BA534EE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E88FE-4CB8-4A9D-9E90-A1CBEBC0F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04D4D2-D5C6-4EA3-9780-BA924CDA2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F84A5-1625-40E1-8A6E-A55E24740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5A06E-3D16-42B2-A252-5AA427487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89397-819C-415A-B88C-06061DD6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B70F-A462-44CF-A5D9-EF2C1094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EB5E68-0B66-4508-8454-DC065F33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F1CC5-1402-43BC-A517-C9BFCAE0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9D7469-E53F-410B-8489-89FEAA177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A34BF-2B2E-46E8-BAE0-373ADAE61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CF7661-606D-4235-A74F-806148276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45996E-82CA-495E-9BED-DB8A01F11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D3AD1-3689-4D32-AA23-FD2F547B5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22777-69EC-45F3-82F9-7A6E19C52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FE33C6-4C77-4985-A568-109B0B578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DEE06A-014A-4F52-BBCF-7D64610EA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893B-A597-40D2-8209-3CF63CAF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8F5096-F8F3-439E-874E-7D8296F6E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65931-B25F-4CD2-9708-39E2254A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B53260-6786-4B72-9EE3-01A1DA04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C51C8D-FAF6-452E-82F7-3108451C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27CCC-CFEA-4205-BF06-72CD63CC0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05E6B1-A4C4-4A73-8B7A-9AA0DA40D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1474FA-7AF7-4545-8D03-EC68D542E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A2B2BC-24E3-4212-8CCF-5FEDE791B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BD2BE2-88C8-4F31-A45E-AAE344566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F4DEC1-7FA4-4D44-A9C9-28C8AA01A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B85EA1-BCF7-413E-814F-38873AF37F6E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Freeform 6"/>
          <p:cNvGrpSpPr/>
          <p:nvPr/>
        </p:nvGrpSpPr>
        <p:grpSpPr>
          <a:xfrm>
            <a:off x="673200" y="1295280"/>
            <a:ext cx="6946920" cy="3949920"/>
            <a:chOff x="673200" y="1295280"/>
            <a:chExt cx="6946920" cy="3949920"/>
          </a:xfrm>
        </p:grpSpPr>
        <p:pic>
          <p:nvPicPr>
            <p:cNvPr id="391" name="Freeform 6" descr=""/>
            <p:cNvPicPr/>
            <p:nvPr/>
          </p:nvPicPr>
          <p:blipFill>
            <a:blip r:embed="rId2"/>
            <a:stretch/>
          </p:blipFill>
          <p:spPr>
            <a:xfrm>
              <a:off x="673200" y="1295280"/>
              <a:ext cx="6946920" cy="394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690480" y="1308240"/>
              <a:ext cx="6918480" cy="39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8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9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30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FD2CA8-0491-4C2E-8494-C6426823BFD6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Freeform 6"/>
          <p:cNvGrpSpPr/>
          <p:nvPr/>
        </p:nvGrpSpPr>
        <p:grpSpPr>
          <a:xfrm>
            <a:off x="1231920" y="2755800"/>
            <a:ext cx="5371920" cy="3048120"/>
            <a:chOff x="1231920" y="2755800"/>
            <a:chExt cx="5371920" cy="3048120"/>
          </a:xfrm>
        </p:grpSpPr>
        <p:pic>
          <p:nvPicPr>
            <p:cNvPr id="435" name="Freeform 6" descr=""/>
            <p:cNvPicPr/>
            <p:nvPr/>
          </p:nvPicPr>
          <p:blipFill>
            <a:blip r:embed="rId2"/>
            <a:stretch/>
          </p:blipFill>
          <p:spPr>
            <a:xfrm>
              <a:off x="1231920" y="2755800"/>
              <a:ext cx="537192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1246320" y="2766960"/>
              <a:ext cx="5348160" cy="30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31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2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3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59B37A-9060-401B-B294-E804B38904A3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8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479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4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5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6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59CB74-41A6-403A-A8ED-8F31317E53EC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Freeform 6"/>
          <p:cNvGrpSpPr/>
          <p:nvPr/>
        </p:nvGrpSpPr>
        <p:grpSpPr>
          <a:xfrm>
            <a:off x="8369280" y="533520"/>
            <a:ext cx="4965840" cy="6565680"/>
            <a:chOff x="8369280" y="533520"/>
            <a:chExt cx="4965840" cy="6565680"/>
          </a:xfrm>
        </p:grpSpPr>
        <p:pic>
          <p:nvPicPr>
            <p:cNvPr id="523" name="Freeform 6" descr=""/>
            <p:cNvPicPr/>
            <p:nvPr/>
          </p:nvPicPr>
          <p:blipFill>
            <a:blip r:embed="rId2"/>
            <a:stretch/>
          </p:blipFill>
          <p:spPr>
            <a:xfrm>
              <a:off x="8369280" y="533520"/>
              <a:ext cx="4965840" cy="656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"/>
            <p:cNvSpPr/>
            <p:nvPr/>
          </p:nvSpPr>
          <p:spPr>
            <a:xfrm>
              <a:off x="8380440" y="539640"/>
              <a:ext cx="4940280" cy="65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7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8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9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EF9026-3DA6-429B-9B26-28D0BFE9C59F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Freeform 6"/>
          <p:cNvGrpSpPr/>
          <p:nvPr/>
        </p:nvGrpSpPr>
        <p:grpSpPr>
          <a:xfrm>
            <a:off x="-12600" y="-12600"/>
            <a:ext cx="13347720" cy="6311880"/>
            <a:chOff x="-12600" y="-12600"/>
            <a:chExt cx="13347720" cy="6311880"/>
          </a:xfrm>
        </p:grpSpPr>
        <p:pic>
          <p:nvPicPr>
            <p:cNvPr id="42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631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0" y="-3240"/>
              <a:ext cx="13320720" cy="62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9987AF-5BBA-49C6-BDD5-0BD9F52AA998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86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7E27E8-D6DC-454F-AE0E-F390350254D1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Freeform 7"/>
          <p:cNvGrpSpPr/>
          <p:nvPr/>
        </p:nvGrpSpPr>
        <p:grpSpPr>
          <a:xfrm>
            <a:off x="-12600" y="-12600"/>
            <a:ext cx="13347720" cy="6324480"/>
            <a:chOff x="-12600" y="-12600"/>
            <a:chExt cx="13347720" cy="6324480"/>
          </a:xfrm>
        </p:grpSpPr>
        <p:pic>
          <p:nvPicPr>
            <p:cNvPr id="130" name="Freeform 7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632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0" y="0"/>
              <a:ext cx="13320720" cy="62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C0183B-BC2E-4710-BFEC-294C65A5D85D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174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0D5A8D-8A12-424C-975F-3412C9CBFEC0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218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9F0C32-227C-43FF-86F8-392FE7D88BA4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262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53B44C-5230-45B0-8C5F-8EA5D3213F3E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Freeform 6"/>
          <p:cNvGrpSpPr/>
          <p:nvPr/>
        </p:nvGrpSpPr>
        <p:grpSpPr>
          <a:xfrm>
            <a:off x="1155600" y="533520"/>
            <a:ext cx="3899160" cy="2222280"/>
            <a:chOff x="1155600" y="533520"/>
            <a:chExt cx="3899160" cy="2222280"/>
          </a:xfrm>
        </p:grpSpPr>
        <p:pic>
          <p:nvPicPr>
            <p:cNvPr id="306" name="Freeform 6" descr=""/>
            <p:cNvPicPr/>
            <p:nvPr/>
          </p:nvPicPr>
          <p:blipFill>
            <a:blip r:embed="rId2"/>
            <a:stretch/>
          </p:blipFill>
          <p:spPr>
            <a:xfrm>
              <a:off x="1155600" y="533520"/>
              <a:ext cx="3899160" cy="22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1173240" y="539640"/>
              <a:ext cx="387504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EF7803-4C7B-40F4-AFAB-D627689E844A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4244760" y="7310520"/>
            <a:ext cx="1068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644400" y="7310520"/>
            <a:ext cx="36007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531324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B23406-333A-4F9A-AA29-4D9540FBB71A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73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PPT file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28T12:56:11Z</dcterms:created>
  <dc:creator>Johannes Nussbaum</dc:creator>
  <dc:description/>
  <dc:language>en-US</dc:language>
  <cp:lastModifiedBy>Johannes Nussbaum</cp:lastModifiedBy>
  <dcterms:modified xsi:type="dcterms:W3CDTF">2022-08-10T13:13:30Z</dcterms:modified>
  <cp:revision>18</cp:revision>
  <dc:subject/>
  <dc:title>DaSCH,  Swiss National Data &amp; Service Center for the Humanities </dc:title>
</cp:coreProperties>
</file>