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43728168"/>
        <c:axId val="64977683"/>
      </c:barChart>
      <c:catAx>
        <c:axId val="43728168"/>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4977683"/>
        <c:crosses val="autoZero"/>
        <c:auto val="1"/>
        <c:lblAlgn val="ctr"/>
        <c:lblOffset val="100"/>
        <c:noMultiLvlLbl val="0"/>
      </c:catAx>
      <c:valAx>
        <c:axId val="6497768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3728168"/>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9FFF5-A5A8-4F99-AD9B-BA9556153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BC9AA-823C-46BE-A1E5-E742EF867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74911-C55D-4E9F-9F93-6DA7C6FDA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C9ED9-FD0E-4397-AF4A-73C94E4C4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6264D-D66E-4147-B54F-7690891B7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46D6C-80FD-4866-97A0-5B9D19A30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D0A06-9E27-4170-ADD3-FFC634C89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F4FC4-3983-4F06-B585-C163DBAD6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96756-6F9A-4EEB-AD43-AF09EDF23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41250-525D-425B-9246-D9166FE57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5B251-A4B3-43DB-8FE6-68DEB22F4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D8F8F-1565-4A50-997E-8D33FFA63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A975C-7A2E-41EB-837F-A797A4365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5AB10-E093-4827-BD96-84F3F16AF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93898-01DD-4677-B5A0-5A373451A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E1FAF-6444-4086-8042-E8C1F4CC6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56022-B9E9-4CE7-9F4C-B15AA2975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0CBEE-2AB3-4CCC-9C22-C7FF9D1EE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79B9C-8065-42BC-BBB9-168B75112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C2FC5-2B33-4202-A408-0D4C8C34A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41987-3D26-46C0-95DA-7239D8AE4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AEED7-FC15-443B-9CE1-6986BDA39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ED942-397D-4BC7-8C0D-7ADC9FC7B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2A52F-44B6-4A24-8B21-63723CD2A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5A9716-CEB3-422E-BBA8-304C2E5C5C7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65B437-B74D-4A28-A204-05EE641BC8E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