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3BA7-C5C3-45E6-9801-983A7DDAD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5DC-1DF8-4E79-8D9B-80670755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3158-6EAA-4F36-8A9C-2BA4E10A6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F5E-FF7B-496B-9A24-A8B3DBEB5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856A-6850-4DB6-A7F3-AF4FC6976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6D88-A300-41B1-93CB-0AF509A3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8117-9E40-465F-98A9-FE0DDBC8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95C7-ED75-483C-9239-26415AB6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F1D4-752D-4160-9B48-E6F0AAD6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8792-1DAE-49AF-BB0E-7DB1E627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A8B4-69AF-4090-AA04-C2CABB26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D3A9-9C88-4E24-89BB-95D894A75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BBAC-CC9D-493E-9FF1-A7D0C8F5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A3A5-BD92-492A-9715-776B97F8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8389-7EBE-4034-820C-57DA6BA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1AD8-A4DC-461B-8030-BAC0F3450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2D5B-CA3A-47D4-95B1-9F49A2A67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06F1F2-0064-4A54-8D73-F2913C6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C4F14-C73A-4D92-9703-41D34DC65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30FA6-D3A8-45BD-85A1-AC32F49A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9E8A4-B2ED-4885-A805-EFEEAFFA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F4659A-2F85-4069-BD4B-570910A6B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7950-C900-4CC5-82F2-E9FC2739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8D47A-CE13-4C96-8319-DA36BE0D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846DDB-67E4-4903-9072-9BC9E18C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BFF90-F1CE-42CF-B37C-DA020531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C271D-AD5E-4474-8028-026DCA0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DFFF01-82EF-4E06-9E0B-C5FF5F92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3A079-C995-4108-B45A-C098E8B8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A4CCF-8856-42D0-962F-8C79CA68B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18A3C-2F73-4F63-9057-66781D80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35FC5-EAD8-494A-B183-16167A5F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0175B-4B61-4118-BBA0-7637DECA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935-A4E8-4DC7-8D1E-C1A1995B9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B8091-FEB2-4B12-BB9B-0586761F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1B5D30-BCFA-4950-BBAB-442F51D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D2F01-0D99-4CD1-9AB5-BA047F21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5EEF-A954-4524-AB72-1D78D1DD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5BB6B-016B-4B5C-8260-B7C551F3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52D29-89D8-4B3E-B71D-BF8BC924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3F731-DEAF-4BE6-8866-7E739CBF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CF49A-EA7A-4D16-ACAD-A2644B707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54DEB-B733-44E7-98A0-5E8489687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FFE133-3D53-4F89-A8AB-0BD1702F5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70B1-3395-40C6-8B20-0BA56F49C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0118C5-0BE1-4465-BE4F-05D2463A8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423CA-8856-4D27-BAB0-0A2ECE47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B08581-605A-4742-8C6C-38FA287E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6081A6-EB71-4343-BF16-5BE8F99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A0AF53-E958-40CE-A3E4-515E7DEE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CF33C5-7129-42BF-8514-D1660280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ECA9B-31B8-4661-9A8E-9B62561D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3A9CF-9416-4F12-8E4F-AD13D9A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D508A-81F4-43AD-8323-11663C9F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7C1D40-181A-4750-A839-F63AC660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DCD3-95A9-46BA-B157-C7CBD4A4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75E554-1BC0-4E93-BA2A-C2F5FAFE9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FC8257-A1BE-437A-993B-DC66D426F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C459B-9542-4721-9537-FC7662B6B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A553A2-CF2D-4FD1-B839-56440520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0E15D-3CB8-4867-9353-20FB8B81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AC9ACA-0669-4C41-9225-08E4804F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11A4C-DCC9-43AC-ACEE-220A163B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AA77E-6BF5-416E-A404-9AE40BBB6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5B96B4-1E15-4334-8160-72F1F908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8C163D-9E53-4CC0-A494-0E71BF69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D931-AABD-4F8D-AF42-6CE9B7D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C0FFDD-EBFF-4952-AB0D-842FD101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622CC5-9767-4E70-9244-FA60CA51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B8215A-CB85-4576-8111-8D18C0DCC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B33EE2-A63E-4764-9CB9-1EBC7AA9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F56BEE-5F5E-48AA-BE89-5A08E56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62CBBE-43A0-4559-91EA-08482736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76E20F-6F47-4C3A-9A31-FEF79345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33FF5-C3EC-4987-8ADF-302BE8CEB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4483D4-EE18-4229-9E19-B69401E3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0FD751-8CE9-44FD-AEBC-2D2DF585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EDEC-3E12-4997-822C-75C7D51A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FF5E2B-E84D-4640-90AC-6329E8E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23A739-6F08-45A8-BA50-BEC8440CB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00263F-39F1-4F71-8107-E76303F6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0DB2AF-F2E6-484E-AFE2-C8DCD3808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97981C-DE1A-49F5-9DD7-9174C07A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A9C-AD36-4FA5-86A0-D0EEBF1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橢圓 11"/>
          <p:cNvSpPr/>
          <p:nvPr/>
        </p:nvSpPr>
        <p:spPr>
          <a:xfrm>
            <a:off x="8156520" y="5977080"/>
            <a:ext cx="54936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3DE3-D50C-4BF9-961D-8C1E6FA2D20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" name="Group 18"/>
          <p:cNvGrpSpPr/>
          <p:nvPr/>
        </p:nvGrpSpPr>
        <p:grpSpPr>
          <a:xfrm>
            <a:off x="127080" y="576360"/>
            <a:ext cx="8542080" cy="1052280"/>
            <a:chOff x="127080" y="576360"/>
            <a:chExt cx="8542080" cy="1052280"/>
          </a:xfrm>
        </p:grpSpPr>
        <p:sp>
          <p:nvSpPr>
            <p:cNvPr id="12" name="Rectangle 2"/>
            <p:cNvSpPr/>
            <p:nvPr/>
          </p:nvSpPr>
          <p:spPr>
            <a:xfrm>
              <a:off x="417600" y="684360"/>
              <a:ext cx="438120" cy="474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Rectangle 3"/>
            <p:cNvSpPr/>
            <p:nvPr/>
          </p:nvSpPr>
          <p:spPr>
            <a:xfrm>
              <a:off x="800280" y="68436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Rectangle 4"/>
            <p:cNvSpPr/>
            <p:nvPr/>
          </p:nvSpPr>
          <p:spPr>
            <a:xfrm>
              <a:off x="541440" y="1106640"/>
              <a:ext cx="422280" cy="47448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Rectangle 5"/>
            <p:cNvSpPr/>
            <p:nvPr/>
          </p:nvSpPr>
          <p:spPr>
            <a:xfrm>
              <a:off x="911160" y="110664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b435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Rectangle 6"/>
            <p:cNvSpPr/>
            <p:nvPr/>
          </p:nvSpPr>
          <p:spPr>
            <a:xfrm>
              <a:off x="127080" y="103356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1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Rectangle 7"/>
            <p:cNvSpPr/>
            <p:nvPr/>
          </p:nvSpPr>
          <p:spPr>
            <a:xfrm>
              <a:off x="762120" y="576360"/>
              <a:ext cx="31680" cy="1052280"/>
            </a:xfrm>
            <a:prstGeom prst="rect">
              <a:avLst/>
            </a:prstGeom>
            <a:solidFill>
              <a:srgbClr val="fff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Rectangle 8"/>
            <p:cNvSpPr/>
            <p:nvPr/>
          </p:nvSpPr>
          <p:spPr>
            <a:xfrm>
              <a:off x="442800" y="13669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39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9" name="Picture 17" descr="稅捐處logo-去背"/>
          <p:cNvPicPr/>
          <p:nvPr/>
        </p:nvPicPr>
        <p:blipFill>
          <a:blip r:embed="rId2"/>
          <a:stretch/>
        </p:blipFill>
        <p:spPr>
          <a:xfrm>
            <a:off x="7956720" y="260280"/>
            <a:ext cx="741240" cy="72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25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矩形 2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矩形 2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矩形 2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直線接點 2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直線接點 3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直線接點 31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直線接點 3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直線接點 33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直線接點 34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矩形 3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橢圓 3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橢圓 37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橢圓 3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橢圓 39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橢圓 40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" name="Picture 22" descr="稅捐處logo-去背"/>
          <p:cNvPicPr/>
          <p:nvPr/>
        </p:nvPicPr>
        <p:blipFill>
          <a:blip r:embed="rId2"/>
          <a:stretch/>
        </p:blipFill>
        <p:spPr>
          <a:xfrm>
            <a:off x="7885080" y="260280"/>
            <a:ext cx="741240" cy="720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6815-7AFF-4562-93C2-42F2D84AEA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橢圓 11"/>
          <p:cNvSpPr/>
          <p:nvPr/>
        </p:nvSpPr>
        <p:spPr>
          <a:xfrm>
            <a:off x="8156520" y="5977080"/>
            <a:ext cx="54936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" name="Group 18"/>
          <p:cNvGrpSpPr/>
          <p:nvPr/>
        </p:nvGrpSpPr>
        <p:grpSpPr>
          <a:xfrm>
            <a:off x="127080" y="576360"/>
            <a:ext cx="8542080" cy="1052280"/>
            <a:chOff x="127080" y="576360"/>
            <a:chExt cx="8542080" cy="1052280"/>
          </a:xfrm>
        </p:grpSpPr>
        <p:sp>
          <p:nvSpPr>
            <p:cNvPr id="121" name="Rectangle 2"/>
            <p:cNvSpPr/>
            <p:nvPr/>
          </p:nvSpPr>
          <p:spPr>
            <a:xfrm>
              <a:off x="417600" y="684360"/>
              <a:ext cx="438120" cy="474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" name="Rectangle 3"/>
            <p:cNvSpPr/>
            <p:nvPr/>
          </p:nvSpPr>
          <p:spPr>
            <a:xfrm>
              <a:off x="800280" y="68436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Rectangle 4"/>
            <p:cNvSpPr/>
            <p:nvPr/>
          </p:nvSpPr>
          <p:spPr>
            <a:xfrm>
              <a:off x="541440" y="1106640"/>
              <a:ext cx="422280" cy="47448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Rectangle 5"/>
            <p:cNvSpPr/>
            <p:nvPr/>
          </p:nvSpPr>
          <p:spPr>
            <a:xfrm>
              <a:off x="911160" y="110664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b435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Rectangle 6"/>
            <p:cNvSpPr/>
            <p:nvPr/>
          </p:nvSpPr>
          <p:spPr>
            <a:xfrm>
              <a:off x="127080" y="103356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1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762120" y="576360"/>
              <a:ext cx="31680" cy="1052280"/>
            </a:xfrm>
            <a:prstGeom prst="rect">
              <a:avLst/>
            </a:prstGeom>
            <a:solidFill>
              <a:srgbClr val="fff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Rectangle 8"/>
            <p:cNvSpPr/>
            <p:nvPr/>
          </p:nvSpPr>
          <p:spPr>
            <a:xfrm>
              <a:off x="442800" y="13669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39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28" name="Picture 17" descr="稅捐處logo-去背"/>
          <p:cNvPicPr/>
          <p:nvPr/>
        </p:nvPicPr>
        <p:blipFill>
          <a:blip r:embed="rId2"/>
          <a:stretch/>
        </p:blipFill>
        <p:spPr>
          <a:xfrm>
            <a:off x="7956720" y="260280"/>
            <a:ext cx="741240" cy="7207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FD86D-6C4B-4039-8A97-D0DAF5AB78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25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矩形 2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矩形 2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矩形 2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直線接點 2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直線接點 3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直線接點 31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直線接點 32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直線接點 33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矩形 34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橢圓 35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橢圓 36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橢圓 37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橢圓 38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橢圓 39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直線接點 40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B022-CE91-4E22-B93A-1545F9FF01C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直線接點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直線接點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直線接點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矩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直線接點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橢圓 11"/>
          <p:cNvSpPr/>
          <p:nvPr/>
        </p:nvSpPr>
        <p:spPr>
          <a:xfrm>
            <a:off x="8156520" y="5977080"/>
            <a:ext cx="549360" cy="5475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3" name="Group 18"/>
          <p:cNvGrpSpPr/>
          <p:nvPr/>
        </p:nvGrpSpPr>
        <p:grpSpPr>
          <a:xfrm>
            <a:off x="127080" y="576360"/>
            <a:ext cx="8542080" cy="1052280"/>
            <a:chOff x="127080" y="576360"/>
            <a:chExt cx="8542080" cy="1052280"/>
          </a:xfrm>
        </p:grpSpPr>
        <p:sp>
          <p:nvSpPr>
            <p:cNvPr id="234" name="Rectangle 2"/>
            <p:cNvSpPr/>
            <p:nvPr/>
          </p:nvSpPr>
          <p:spPr>
            <a:xfrm>
              <a:off x="417600" y="684360"/>
              <a:ext cx="438120" cy="474480"/>
            </a:xfrm>
            <a:prstGeom prst="rect">
              <a:avLst/>
            </a:prstGeom>
            <a:solidFill>
              <a:srgbClr val="759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Rectangle 3"/>
            <p:cNvSpPr/>
            <p:nvPr/>
          </p:nvSpPr>
          <p:spPr>
            <a:xfrm>
              <a:off x="800280" y="68436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7598d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Rectangle 4"/>
            <p:cNvSpPr/>
            <p:nvPr/>
          </p:nvSpPr>
          <p:spPr>
            <a:xfrm>
              <a:off x="541440" y="1106640"/>
              <a:ext cx="422280" cy="474480"/>
            </a:xfrm>
            <a:prstGeom prst="rect">
              <a:avLst/>
            </a:prstGeom>
            <a:solidFill>
              <a:srgbClr val="3b4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Rectangle 5"/>
            <p:cNvSpPr/>
            <p:nvPr/>
          </p:nvSpPr>
          <p:spPr>
            <a:xfrm>
              <a:off x="911160" y="110664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3b435b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Rectangle 6"/>
            <p:cNvSpPr/>
            <p:nvPr/>
          </p:nvSpPr>
          <p:spPr>
            <a:xfrm>
              <a:off x="127080" y="103356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2611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" name="Rectangle 7"/>
            <p:cNvSpPr/>
            <p:nvPr/>
          </p:nvSpPr>
          <p:spPr>
            <a:xfrm>
              <a:off x="762120" y="576360"/>
              <a:ext cx="31680" cy="1052280"/>
            </a:xfrm>
            <a:prstGeom prst="rect">
              <a:avLst/>
            </a:prstGeom>
            <a:solidFill>
              <a:srgbClr val="fff3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Rectangle 8"/>
            <p:cNvSpPr/>
            <p:nvPr/>
          </p:nvSpPr>
          <p:spPr>
            <a:xfrm>
              <a:off x="442800" y="1366920"/>
              <a:ext cx="8226360" cy="31680"/>
            </a:xfrm>
            <a:prstGeom prst="rect">
              <a:avLst/>
            </a:prstGeom>
            <a:gradFill rotWithShape="0">
              <a:gsLst>
                <a:gs pos="0">
                  <a:srgbClr val="fff39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41" name="Picture 17" descr="稅捐處logo-去背"/>
          <p:cNvPicPr/>
          <p:nvPr/>
        </p:nvPicPr>
        <p:blipFill>
          <a:blip r:embed="rId2"/>
          <a:stretch/>
        </p:blipFill>
        <p:spPr>
          <a:xfrm>
            <a:off x="7956720" y="260280"/>
            <a:ext cx="741240" cy="7207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4"/>
          </p:nvPr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B06-C46E-489A-8453-667C31F0B2F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直線接點 2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直線接點 2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直線接點 2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直線接點 2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矩形 2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直線接點 3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橢圓 3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17"/>
          </p:nvPr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6F202-7741-43E8-BD29-9F7359DC1EE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直線接點 2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橢圓 2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直線接點 2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矩形 2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直線接點 2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直線接點 3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直線接點 31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20"/>
          </p:nvPr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9F089-F48B-4895-9BD2-406236AE273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02F0-55DD-449E-9B66-FBA93D49DE4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一、簡介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共計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4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，其編列方法及各欄位所代表之內容如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代表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縣市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別，以大寫英文字母代表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為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總分局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處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代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三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代表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鄉鎮市區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別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四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6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7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代表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稅目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別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稅目別代號為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五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為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細稅別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位代表稅款所屬「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年度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七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1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兩位代表稅款所屬「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期別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或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查獲使用日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八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至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2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為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使用牌照號碼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靠左編列，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右留空白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3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及第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4</a:t>
            </a: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為</a:t>
            </a:r>
            <a:r>
              <a:rPr b="0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檢查碼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787320" y="2276640"/>
          <a:ext cx="7850160" cy="1296720"/>
        </p:xfrm>
        <a:graphic>
          <a:graphicData uri="http://schemas.openxmlformats.org/drawingml/2006/table">
            <a:tbl>
              <a:tblPr/>
              <a:tblGrid>
                <a:gridCol w="355680"/>
                <a:gridCol w="325440"/>
                <a:gridCol w="324000"/>
                <a:gridCol w="325440"/>
                <a:gridCol w="323640"/>
                <a:gridCol w="324000"/>
                <a:gridCol w="325440"/>
                <a:gridCol w="355680"/>
                <a:gridCol w="323640"/>
                <a:gridCol w="325440"/>
                <a:gridCol w="324000"/>
                <a:gridCol w="325440"/>
                <a:gridCol w="323640"/>
                <a:gridCol w="324000"/>
                <a:gridCol w="325440"/>
                <a:gridCol w="323640"/>
                <a:gridCol w="324000"/>
                <a:gridCol w="325440"/>
                <a:gridCol w="324000"/>
                <a:gridCol w="325440"/>
                <a:gridCol w="323640"/>
                <a:gridCol w="324000"/>
                <a:gridCol w="325440"/>
                <a:gridCol w="323640"/>
              </a:tblGrid>
              <a:tr h="6076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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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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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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稽徵</a:t>
                      </a:r>
                      <a:br>
                        <a:rPr sz="900"/>
                      </a:b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單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鄉鎮市區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稅目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ts val="11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細稅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期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料號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車籍號碼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檢查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5058-3AD8-4E66-BE95-EAEB267A6C1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二、縣市別代碼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代表縣市別，以大寫英文字母代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31720" y="2205000"/>
          <a:ext cx="8361360" cy="4176720"/>
        </p:xfrm>
        <a:graphic>
          <a:graphicData uri="http://schemas.openxmlformats.org/drawingml/2006/table">
            <a:tbl>
              <a:tblPr/>
              <a:tblGrid>
                <a:gridCol w="1949400"/>
                <a:gridCol w="990720"/>
                <a:gridCol w="1663560"/>
                <a:gridCol w="978120"/>
                <a:gridCol w="1481040"/>
                <a:gridCol w="1298520"/>
              </a:tblGrid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 anchorCtr="1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臺北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竹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J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臺東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V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臺中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苗栗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金門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W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基隆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南投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澎湖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X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臺南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彰化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連江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雄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竹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新北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b68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雲林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宜蘭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嘉義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Q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桃園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屏東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嘉義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I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花蓮縣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U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marL="179280" algn="ctr">
                        <a:lnSpc>
                          <a:spcPts val="2299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0DACD-E375-4EF8-9DAD-4EFDF5066FC9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三、新北市政府稅捐稽徵處總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(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分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)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處及轄區代碼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2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代表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處；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4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代表區別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179280" y="2205000"/>
          <a:ext cx="8569440" cy="4334040"/>
        </p:xfrm>
        <a:graphic>
          <a:graphicData uri="http://schemas.openxmlformats.org/drawingml/2006/table">
            <a:tbl>
              <a:tblPr/>
              <a:tblGrid>
                <a:gridCol w="1006560"/>
                <a:gridCol w="1006560"/>
                <a:gridCol w="6556320"/>
              </a:tblGrid>
              <a:tr h="3621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代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d6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總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(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)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d6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各處所轄區之代碼及區名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bebd6"/>
                    </a:solidFill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總</a:t>
                      </a:r>
                      <a:r>
                        <a:rPr b="0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7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樹林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9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土城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三鶯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5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三峽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6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鶯歌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汐止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8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汐止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板橋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4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板橋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三重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4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蘆洲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5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三重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淡水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5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金山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6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萬里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7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淡水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0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三芝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1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石門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2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八里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新店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7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新店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8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石碇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9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深坑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坪林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烏來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瑞芳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1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瑞芳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2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平溪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3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雙溪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4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貢寮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中和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8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中和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3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永和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新莊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1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新莊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3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五股區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、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6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泰山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2160"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ctr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500" spc="-1" strike="noStrike">
                          <a:solidFill>
                            <a:srgbClr val="ff0000"/>
                          </a:solidFill>
                          <a:latin typeface="標楷體"/>
                          <a:ea typeface="標楷體"/>
                        </a:rPr>
                        <a:t>林口</a:t>
                      </a:r>
                      <a:r>
                        <a:rPr b="0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分處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6320" rIns="76320" tIns="40680" bIns="16560" anchor="ctr">
                      <a:noAutofit/>
                    </a:bodyPr>
                    <a:p>
                      <a:pPr algn="just">
                        <a:lnSpc>
                          <a:spcPts val="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02</a:t>
                      </a:r>
                      <a:r>
                        <a:rPr b="1" lang="zh-TW" sz="15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 </a:t>
                      </a:r>
                      <a:r>
                        <a:rPr b="1" lang="zh-TW" sz="1500" spc="-1" strike="noStrike">
                          <a:solidFill>
                            <a:srgbClr val="7030a0"/>
                          </a:solidFill>
                          <a:latin typeface="標楷體"/>
                          <a:ea typeface="標楷體"/>
                        </a:rPr>
                        <a:t>林口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F1753-7804-4C6D-BE30-4E9B29A9D08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四、細稅別代碼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8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代表細稅別，代表意義如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00000" y="2276640"/>
          <a:ext cx="7704360" cy="4321080"/>
        </p:xfrm>
        <a:graphic>
          <a:graphicData uri="http://schemas.openxmlformats.org/drawingml/2006/table">
            <a:tbl>
              <a:tblPr/>
              <a:tblGrid>
                <a:gridCol w="3252960"/>
                <a:gridCol w="3424320"/>
                <a:gridCol w="1027080"/>
              </a:tblGrid>
              <a:tr h="3920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細稅目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監理機關車輛類別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 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自用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用大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自用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用大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型自用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用小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型自用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用小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營業客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大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營業貨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普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大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型營業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小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型營業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小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營業客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遊覽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交通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客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型營業貨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特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貨櫃曳引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ECCF-44CF-4535-8916-564912CFB9B3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四、細稅別代碼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8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代表細稅別，代表意義如下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00000" y="2276640"/>
          <a:ext cx="7775640" cy="4321080"/>
        </p:xfrm>
        <a:graphic>
          <a:graphicData uri="http://schemas.openxmlformats.org/drawingml/2006/table">
            <a:tbl>
              <a:tblPr/>
              <a:tblGrid>
                <a:gridCol w="3283200"/>
                <a:gridCol w="3456000"/>
                <a:gridCol w="1036440"/>
              </a:tblGrid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細稅目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 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監理機關車輛類別名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 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型機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輕型機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型機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重型機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試車牌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試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牌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臨時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自貨牽引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自用大貨曳引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大營貨牽引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貨運曳引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馬達三輪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馬達三輪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拼裝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拼裝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小型營業貨車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(</a:t>
                      </a: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未換照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營業小貨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違章財務罰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違章罰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標楷體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0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違章罰鍰保證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ts val="20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違章罰鍰保證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標楷體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0BAF-C5DF-4801-A237-710FEF56E68E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250920" y="836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五、年度及期別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9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即代表年度，編列原則說明如下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民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0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後，管理代號「所屬年度」欄項置入年度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位，如民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7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置入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07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民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0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置入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0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，依此類推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則代表期別、隨課日期</a:t>
            </a:r>
            <a:r>
              <a:rPr b="1" lang="zh-TW" sz="2000" spc="-1" strike="noStrike">
                <a:solidFill>
                  <a:srgbClr val="7030a0"/>
                </a:solidFill>
                <a:latin typeface="Times New Roman"/>
                <a:ea typeface="標楷體"/>
              </a:rPr>
              <a:t>或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查獲使用之日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編列原則說明如下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0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全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開徵（含移轉管轄與全額過戶案件）、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營業用車上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0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營業用車下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00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起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新車領牌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6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起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非全年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（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隨課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）開徵</a:t>
            </a:r>
            <a:r>
              <a:rPr b="1" lang="zh-TW" sz="2000" spc="-1" strike="noStrike">
                <a:solidFill>
                  <a:srgbClr val="7030a0"/>
                </a:solidFill>
                <a:latin typeface="Times New Roman"/>
                <a:ea typeface="標楷體"/>
              </a:rPr>
              <a:t>或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查獲使用之日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1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車輛各種異動狀況之隨課補單，如重新領牌、變更車種、取消免稅、復駛、繳（註）（吊）銷牌照、吊扣牌照、失竊、尋獲</a:t>
            </a:r>
            <a:r>
              <a:rPr b="0" lang="zh-TW" sz="2000" spc="-1" strike="noStrike">
                <a:solidFill>
                  <a:srgbClr val="000000"/>
                </a:solidFill>
                <a:latin typeface="Tahoma"/>
                <a:ea typeface="標楷體"/>
              </a:rPr>
              <a:t>……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等），其期別以異動日（免稅案件以取消免稅之生效日）之「月、日」編列，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每日均有一個獨立之管理代號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E3DC-FE0E-4077-B777-B56C6F8AF882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Rectangle 2"/>
          <p:cNvSpPr/>
          <p:nvPr/>
        </p:nvSpPr>
        <p:spPr>
          <a:xfrm>
            <a:off x="250920" y="836640"/>
            <a:ext cx="86421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    </a:t>
            </a: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     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五、年度及期別介紹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2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編列原則如次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2,3,……9,A,B,C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代表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月到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月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管理代號之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第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2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位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以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,2,3,……9,A,B,C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、、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V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代表「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日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31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日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」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403280" y="3429000"/>
          <a:ext cx="7201080" cy="3168720"/>
        </p:xfrm>
        <a:graphic>
          <a:graphicData uri="http://schemas.openxmlformats.org/drawingml/2006/table">
            <a:tbl>
              <a:tblPr/>
              <a:tblGrid>
                <a:gridCol w="797040"/>
                <a:gridCol w="915840"/>
                <a:gridCol w="916200"/>
                <a:gridCol w="915840"/>
                <a:gridCol w="912960"/>
                <a:gridCol w="911160"/>
                <a:gridCol w="915840"/>
                <a:gridCol w="916200"/>
              </a:tblGrid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代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3eaf7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9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7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E2B33-1EC5-4FB0-9D49-630BD1B2DE21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六、範例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明有一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BF-012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號自用小客車，登記於新北市新莊區，自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7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起因故取消免稅，系統給予之檢查碼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8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請問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明會收到哪個稅捐稽徵處寄送之繳款書？又繳款書上列示的管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理代號如何表示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稅捐稽徵機關：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新北市政府稅捐稽徵處新莊分處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繳款書上管理代號應列示為：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116000" y="3718080"/>
          <a:ext cx="7488360" cy="2158920"/>
        </p:xfrm>
        <a:graphic>
          <a:graphicData uri="http://schemas.openxmlformats.org/drawingml/2006/table">
            <a:tbl>
              <a:tblPr/>
              <a:tblGrid>
                <a:gridCol w="330120"/>
                <a:gridCol w="330120"/>
                <a:gridCol w="330480"/>
                <a:gridCol w="330120"/>
                <a:gridCol w="330120"/>
                <a:gridCol w="330120"/>
                <a:gridCol w="330480"/>
                <a:gridCol w="330120"/>
                <a:gridCol w="303120"/>
                <a:gridCol w="301680"/>
                <a:gridCol w="303120"/>
                <a:gridCol w="303120"/>
                <a:gridCol w="301680"/>
                <a:gridCol w="304920"/>
                <a:gridCol w="303120"/>
                <a:gridCol w="303120"/>
                <a:gridCol w="301680"/>
                <a:gridCol w="303480"/>
                <a:gridCol w="303120"/>
                <a:gridCol w="301680"/>
                <a:gridCol w="304560"/>
                <a:gridCol w="303480"/>
                <a:gridCol w="301320"/>
                <a:gridCol w="303480"/>
              </a:tblGrid>
              <a:tr h="7999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稽徵單位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鄉鎮市區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稅目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細稅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期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料號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車籍號碼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檢查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25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F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0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1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24000" y="213840"/>
            <a:ext cx="861984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900" spc="-1" strike="noStrike">
                <a:solidFill>
                  <a:srgbClr val="575f6d"/>
                </a:solidFill>
                <a:latin typeface="Times New Roman"/>
                <a:ea typeface="標楷體"/>
              </a:rPr>
              <a:t> </a:t>
            </a:r>
            <a:r>
              <a:rPr b="1" lang="zh-TW" sz="2900" spc="-1" strike="noStrike">
                <a:solidFill>
                  <a:srgbClr val="000000"/>
                </a:solidFill>
                <a:latin typeface="Times New Roman"/>
                <a:ea typeface="標楷體"/>
              </a:rPr>
              <a:t>使用牌照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1" name="投影片編號版面配置區 5"/>
          <p:cNvSpPr/>
          <p:nvPr/>
        </p:nvSpPr>
        <p:spPr>
          <a:xfrm>
            <a:off x="8129520" y="600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09E26-F462-4603-9EB3-240A43357984}" type="slidenum">
              <a:rPr b="1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2"/>
          <p:cNvSpPr/>
          <p:nvPr/>
        </p:nvSpPr>
        <p:spPr>
          <a:xfrm>
            <a:off x="531720" y="836640"/>
            <a:ext cx="8361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79360" indent="-117936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3300"/>
                </a:solidFill>
                <a:latin typeface="Times New Roman"/>
                <a:ea typeface="標楷體"/>
              </a:rPr>
              <a:t>肆、使用牌照稅繳款書之管理代號判讀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   </a:t>
            </a:r>
            <a:r>
              <a:rPr b="1" lang="zh-TW" sz="2400" spc="-1" strike="noStrike">
                <a:solidFill>
                  <a:srgbClr val="0066ff"/>
                </a:solidFill>
                <a:latin typeface="Times New Roman"/>
                <a:ea typeface="標楷體"/>
              </a:rPr>
              <a:t>六、範例：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(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)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小娟近日收到新北市政府稅捐稽徵處寄送之繳款書，小娟記得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公已經繳了使用牌照稅，不明白為何再收到一次使用牌照稅，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問稅捐處，卻看不懂該問誰，車子又被老公開出去，記不得車號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，也記不起登記在哪個地址，請幫小娟解讀下列繳款書之車號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   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稅捐稽徵機關等資訊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稅捐稽徵機關：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新北市政府稅捐稽徵處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2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登記地址：新北市樹林區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3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車號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ABC-3328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4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本繳款書為使用牌照稅</a:t>
            </a:r>
            <a:r>
              <a:rPr b="1" lang="zh-TW" sz="2000" spc="-1" strike="noStrike">
                <a:solidFill>
                  <a:srgbClr val="ff0000"/>
                </a:solidFill>
                <a:latin typeface="Times New Roman"/>
                <a:ea typeface="標楷體"/>
              </a:rPr>
              <a:t>罰鍰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繳款書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5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、查獲使用日期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7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10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9</a:t>
            </a:r>
            <a:r>
              <a:rPr b="1" lang="zh-TW" sz="2000" spc="-1" strike="noStrike">
                <a:solidFill>
                  <a:srgbClr val="000000"/>
                </a:solidFill>
                <a:latin typeface="Times New Roman"/>
                <a:ea typeface="標楷體"/>
              </a:rPr>
              <a:t>日。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179360" indent="-117936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403280" y="3252960"/>
          <a:ext cx="7056360" cy="1688760"/>
        </p:xfrm>
        <a:graphic>
          <a:graphicData uri="http://schemas.openxmlformats.org/drawingml/2006/table">
            <a:tbl>
              <a:tblPr/>
              <a:tblGrid>
                <a:gridCol w="311400"/>
                <a:gridCol w="311040"/>
                <a:gridCol w="311040"/>
                <a:gridCol w="311040"/>
                <a:gridCol w="311400"/>
                <a:gridCol w="311040"/>
                <a:gridCol w="311040"/>
                <a:gridCol w="311400"/>
                <a:gridCol w="285480"/>
                <a:gridCol w="284400"/>
                <a:gridCol w="285480"/>
                <a:gridCol w="285840"/>
                <a:gridCol w="284400"/>
                <a:gridCol w="287280"/>
                <a:gridCol w="285480"/>
                <a:gridCol w="285840"/>
                <a:gridCol w="284400"/>
                <a:gridCol w="285480"/>
                <a:gridCol w="285840"/>
                <a:gridCol w="284040"/>
                <a:gridCol w="287640"/>
                <a:gridCol w="285480"/>
                <a:gridCol w="284400"/>
                <a:gridCol w="285480"/>
              </a:tblGrid>
              <a:tr h="6253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縣市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稽徵單位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鄉鎮市區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稅目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細稅別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期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 row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資料號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（車籍號碼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檢查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標楷體"/>
                        </a:rPr>
                        <a:t>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A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10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A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B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C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-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zh-TW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7030a0"/>
                          </a:solidFill>
                          <a:latin typeface="Times New Roman"/>
                        </a:rPr>
                        <a:t>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7640" marR="17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2T06:32:26Z</dcterms:created>
  <dc:creator>ac8765</dc:creator>
  <dc:description/>
  <dc:language>en-US</dc:language>
  <cp:lastModifiedBy>THH09854</cp:lastModifiedBy>
  <cp:lastPrinted>2013-11-12T08:07:30Z</cp:lastPrinted>
  <dcterms:modified xsi:type="dcterms:W3CDTF">2022-05-09T08:35:49Z</dcterms:modified>
  <cp:revision>1065</cp:revision>
  <dc:subject/>
  <dc:title>新北市政府稅捐稽徵處</dc:title>
</cp:coreProperties>
</file>