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</p:sldIdLst>
  <p:sldSz cx="13320713" cy="82978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6CAC-A73C-407D-BDE4-65E2BD25B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1A30-2DD2-4255-8171-3F1F4DC7E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1E3059-82A0-4D18-9D57-D990B8897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DB2AA8-3161-4F5F-AB14-D27782F04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0D8DF4-DC01-4AFA-B8B4-53FDE33BE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0DB155-20A4-412B-BC28-88C51CCE3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5F5CAE-961C-477C-936A-DB6B54967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C2DF21-5ABC-43E1-9F54-A41342D09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A42B14-E83B-4C71-B0BD-D44DAF518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2BF27A-4FA2-4622-9E7A-5E2990EAD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7FA42A-9198-423A-9BD7-B713D67C6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0190AC-5AD8-4640-A4C9-869BA28A7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0FCE-2E7A-477F-9512-263F4541D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B80E2C-943C-4750-A1DC-3BEA0E585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DD06EC-6A49-4F14-80BE-36E8E1A9C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072C5B-5E03-43EA-9990-F4B3DC7B2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851CE1-0C47-4F0A-A67C-72F2CD8C6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1E70A1-0F38-45BD-8D1B-10B416E71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686696-AFDA-4332-AEE5-64148804A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D25DC5-7EE6-45B5-B332-52749F46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640E60-AC4E-4D32-A5D9-E506FC73F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21450B-CC61-4BF7-9EC1-31100E0EE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20A846-FFCC-4CDC-82FD-294436A62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D75E-247D-488C-9A63-2F4223865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A0F069-573D-499D-8B89-07E5CEEA0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5AB512-C016-49EB-A11F-2261E059E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711BC8-21BC-47E5-9D1A-D44DA7109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FEA946-2382-48D6-A3E6-EBED5832F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FED127-0F08-486D-AF5E-5CAE83558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D71DD4-A23E-40E5-BD53-DB95DD410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93D5D9-31CB-4511-94FF-E9C23E87B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F62213-919E-493A-92D8-04BC7105B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CAE3F1-8DDF-4E57-8DE0-DFE761379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E9BCB2-A332-4FAB-90E3-0554D4FD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AB09B-F857-4226-B352-D3840C161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83E9A9-195E-46D1-A04C-A84D7712B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9F954F-7047-4733-ADE0-81A195B5D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86D456-1E00-4F36-A63C-124493F7A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8D3D18-B9F9-41E4-8B5E-D6D266CFD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945E19-A665-437B-82FC-AD8792A22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2A32E4-80BE-4382-9067-FD2C9C0B3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6EC24A-DB95-416E-B805-49B8B576E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A07D56-5175-48ED-A1BC-DA33B3EB8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CB23AF-BC0B-4E51-8EEA-949EE7241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DA15CD-5881-4CB3-8F09-46D50FCCF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8B368-BA3B-4D2D-9752-46D16BE96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93B1FF-4CAC-47C9-9D31-BB43A40B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DE1770-D7FD-4871-9D51-D5A9CF7B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C8CCCC-84C0-491A-AA09-D079C708A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092AC4-84A0-44C2-984F-9B6B473EC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9FEF23-DA5D-400E-A03D-3866085B6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EE4366-85D7-4942-A5CD-1B3DE5A88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833E85-7CFF-43D3-9855-9D249D1F0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742788-5860-4C51-B743-9F2F0F117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F3D3ED-2A45-4FD8-B628-05497758B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8B0C6E-1C4E-4071-B22A-A9EF6B11B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E450B-FDD8-405C-B4E9-43BA98E39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784F13-4F4C-49AE-A4CE-CDB790169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45EB95-BFA2-471B-8AB5-5EFBF5DC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023241-8958-4281-AE1B-10F76D537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00DB94-ECD2-47E5-B0A1-E5495F4B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16A002-8B5E-4134-90FA-B61D53DBA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19834E-7D86-47A0-9D8F-2646E292B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1A7CEE-715D-4888-9E5A-5FA34970B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B9D47-C54D-49E3-B3C0-7F0B17B05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D79DF-C0E7-4354-BF7A-513E2B565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2B27F-AF34-44F4-A50D-58FFA51C9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934EC-FBA8-4485-96C6-7CB044F81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D315-704B-45D6-B4EC-950324E93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7FCD7-B0FC-4214-B90F-57BD8DD9A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9EBA0-8C68-46DC-83C0-F6366D415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2FF98-4C30-463A-AD34-AC309A2F0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A2594-FBAB-4715-831F-B1F1155B2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B81AE-612E-488A-8958-57675AB0D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C7352-AD84-48E7-A9F0-EC1E94ADB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76A6A-346D-4E8D-A7A2-569175050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7316A-413C-445A-B046-DC6FD7D60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D9554-3F64-40F9-B163-4B9396A80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CC867-BFC8-484A-9CAF-36EF4D37A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F558-8925-4A0E-8583-19688D00B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3FECD-DAF3-404E-A6F4-DF22EFB10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828E9-8455-4552-96DB-6E69D7925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5BFDE-D76C-4B73-BB43-055EDE7E7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C2E5A-2F6E-4657-B22B-242ABCB72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A4BCD-E69C-4492-A2A8-D4DA32D52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7E49A-167E-4603-966C-B2EBDD1FE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29C6A-D9E7-4DD2-801D-6C2C980EE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AF359-3EF8-4E61-B794-96E7590B7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0FB40-1E55-40A0-9734-FDF3179E2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81704-7BAF-47A6-99F4-1BD9D7BD3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B94B-20C5-46AB-BDE1-B08BD4B24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3035D-4BEA-49BA-A41D-D8D52ADFF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6E4E0-0741-444E-874A-973453A6B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B66A3-1AAF-4A69-AFE6-15E6AD258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317E7-935C-4548-945A-EDEB30ED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30780-990F-43B7-BDEF-F44A7E92F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ECD9B-F63E-4652-8C99-47342D3A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246B4-C95E-4692-820D-ABC266A41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25534-ADF4-484A-8136-13DF93DD9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4B2C4-3DE9-4316-B7E1-A12DDCB8F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0CC59-0C97-46A1-AB90-29AD5C40F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B4F4-6431-4EE2-A06A-2D7DD81B2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D113FB-0947-4F9D-8A2B-4DC7D0F97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2AAD15-5C76-46E5-ADD9-052F1B10D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B7EF5C-E407-46CB-AA72-C760682B1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40063F-8445-492E-8E09-FEC66F2BA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27CCC-9359-4E3E-960F-7A9BAD784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CEDFE7-06BE-4805-A4FA-0C7A3C17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96BDD-1838-402F-8537-0AD911443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5A72C-453D-4532-8E6D-2F9858160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8F8838-707A-47EE-95FC-0BBBA211A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ABB7A5-C4E4-47E9-BCE9-7AE7132D9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4048-622C-4E4A-82D9-2AA915DB7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1D4E8-853F-4646-AA7C-15F25F0AF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F492D5-87B1-4961-B2E7-BF94A36EA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BE2807-FF4E-40F0-9CE0-E502456F0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3A3EF1-E52C-45AB-93C2-B1A73D01E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179B80-811F-4E59-A4BA-03B6D07A4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FD4AE6-EC10-4DD0-A83D-189565145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62794E-2B28-49D4-B603-65B05F9E1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A7AD3-D5DB-4EE5-8199-C9AFF486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36D61-9AD7-44F8-BAEF-CD1786E62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28B5B1-8A24-44EA-AC2D-8C3C9D625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CBE4-D0BB-4318-835D-0EC9BBF2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E82580-4F62-47CA-BFE1-35F8558FD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77790E-23A4-4B18-B2BC-9BB0683E1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B545A3-B911-439A-9290-5F0972526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3D8DEB-A106-49D2-9600-C16DB8B7A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7F86FF-1252-4CCE-9017-B52D07DCF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BB4CE2-9414-4CEA-9088-8BAB28419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2B8118-8509-4B3E-832D-89A99E528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2481F4-9F5F-45E4-B1BF-6D402F3D5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7B5F70-EA53-40E3-BFB5-39C82DA33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9CC687-F2E3-4736-881E-D3E1C7423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D02A-B427-4264-B774-58C1071C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78E64-DAC6-4125-9155-39FE2D0A5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CDF27A-4211-4449-931F-4595E63E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917D0C-E3E1-4D23-8124-743840F7E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E4EFDF-105A-4A5F-8654-971692ABA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73ED96-D04E-422E-93AA-077A2F085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119633-53DC-42E4-AF17-7E00B48B1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7427B5-200A-40BB-8BB2-E16D0317C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3010B1-2A27-428E-A208-655004B8A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66AE62-6812-4916-ABB0-E0AE3C633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976E81-BAD0-4C4C-B6BF-22357C8D3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EC69-DEE0-45D2-BAF1-BAC81AF2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4BD5EC-98D7-4DCF-A11F-4E15D5EF9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6BDD3B-3D01-458F-9F05-1CF9DD24F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E70A79-28FA-4758-9A70-73810D14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03409B-0A1D-4C6E-99E8-E1EB8D0C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DB3C0E-0215-4E1B-A582-CDB5C2BC3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B417C1-07CD-46D7-A41D-AB2A558F9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E8200F-4FE5-4922-9C37-C3C59DA76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697AFB-65B5-4F79-A1F9-F534D6CEB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569DBB-D659-4687-B8CB-29D35436E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52D545-FA1C-4BAA-9299-491FF317A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75ABF4-F8BA-4C63-B8F4-93B98CC66793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Freeform 6"/>
          <p:cNvGrpSpPr/>
          <p:nvPr/>
        </p:nvGrpSpPr>
        <p:grpSpPr>
          <a:xfrm>
            <a:off x="673200" y="1295280"/>
            <a:ext cx="6946920" cy="3949920"/>
            <a:chOff x="673200" y="1295280"/>
            <a:chExt cx="6946920" cy="3949920"/>
          </a:xfrm>
        </p:grpSpPr>
        <p:pic>
          <p:nvPicPr>
            <p:cNvPr id="391" name="Freeform 6" descr=""/>
            <p:cNvPicPr/>
            <p:nvPr/>
          </p:nvPicPr>
          <p:blipFill>
            <a:blip r:embed="rId2"/>
            <a:stretch/>
          </p:blipFill>
          <p:spPr>
            <a:xfrm>
              <a:off x="673200" y="1295280"/>
              <a:ext cx="6946920" cy="394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690480" y="1308240"/>
              <a:ext cx="6918480" cy="39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8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9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30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513215-D6BB-4D1A-B87F-65CBBF03A252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Freeform 6"/>
          <p:cNvGrpSpPr/>
          <p:nvPr/>
        </p:nvGrpSpPr>
        <p:grpSpPr>
          <a:xfrm>
            <a:off x="1231920" y="2755800"/>
            <a:ext cx="5371920" cy="3048120"/>
            <a:chOff x="1231920" y="2755800"/>
            <a:chExt cx="5371920" cy="3048120"/>
          </a:xfrm>
        </p:grpSpPr>
        <p:pic>
          <p:nvPicPr>
            <p:cNvPr id="435" name="Freeform 6" descr=""/>
            <p:cNvPicPr/>
            <p:nvPr/>
          </p:nvPicPr>
          <p:blipFill>
            <a:blip r:embed="rId2"/>
            <a:stretch/>
          </p:blipFill>
          <p:spPr>
            <a:xfrm>
              <a:off x="1231920" y="2755800"/>
              <a:ext cx="5371920" cy="30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1246320" y="2766960"/>
              <a:ext cx="5348160" cy="30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31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32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33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62562B-3C80-42B0-9411-104FE2B4F2CC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8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479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34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35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36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F3D1B4-D9DA-469C-8060-2AD7950589B9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Freeform 6"/>
          <p:cNvGrpSpPr/>
          <p:nvPr/>
        </p:nvGrpSpPr>
        <p:grpSpPr>
          <a:xfrm>
            <a:off x="8369280" y="533520"/>
            <a:ext cx="4965840" cy="6565680"/>
            <a:chOff x="8369280" y="533520"/>
            <a:chExt cx="4965840" cy="6565680"/>
          </a:xfrm>
        </p:grpSpPr>
        <p:pic>
          <p:nvPicPr>
            <p:cNvPr id="523" name="Freeform 6" descr=""/>
            <p:cNvPicPr/>
            <p:nvPr/>
          </p:nvPicPr>
          <p:blipFill>
            <a:blip r:embed="rId2"/>
            <a:stretch/>
          </p:blipFill>
          <p:spPr>
            <a:xfrm>
              <a:off x="8369280" y="533520"/>
              <a:ext cx="4965840" cy="656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"/>
            <p:cNvSpPr/>
            <p:nvPr/>
          </p:nvSpPr>
          <p:spPr>
            <a:xfrm>
              <a:off x="8380440" y="539640"/>
              <a:ext cx="4940280" cy="655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37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ftr" idx="38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sldNum" idx="39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D6DF00-0403-4815-8A25-371804A6D4FD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Freeform 6"/>
          <p:cNvGrpSpPr/>
          <p:nvPr/>
        </p:nvGrpSpPr>
        <p:grpSpPr>
          <a:xfrm>
            <a:off x="-12600" y="-12600"/>
            <a:ext cx="13347720" cy="6311880"/>
            <a:chOff x="-12600" y="-12600"/>
            <a:chExt cx="13347720" cy="6311880"/>
          </a:xfrm>
        </p:grpSpPr>
        <p:pic>
          <p:nvPicPr>
            <p:cNvPr id="42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631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0" y="-3240"/>
              <a:ext cx="13320720" cy="629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8DBCE0-8CB7-4EAC-891C-059C1C3D01E5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86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EA9A75-97E4-4ED0-8C3A-C5820911AAE3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Freeform 7"/>
          <p:cNvGrpSpPr/>
          <p:nvPr/>
        </p:nvGrpSpPr>
        <p:grpSpPr>
          <a:xfrm>
            <a:off x="-12600" y="-12600"/>
            <a:ext cx="13347720" cy="6324480"/>
            <a:chOff x="-12600" y="-12600"/>
            <a:chExt cx="13347720" cy="6324480"/>
          </a:xfrm>
        </p:grpSpPr>
        <p:pic>
          <p:nvPicPr>
            <p:cNvPr id="130" name="Freeform 7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632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0" y="0"/>
              <a:ext cx="13320720" cy="629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202970-3ACF-4220-8790-37DCCC79C354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174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A46F88-DEE8-4DB7-B8EB-462F1F4E233C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218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24C278-D5AA-4DD2-8642-2451249D488E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262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6E6830-B8AA-4ABE-B844-138F18E9A502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Freeform 6"/>
          <p:cNvGrpSpPr/>
          <p:nvPr/>
        </p:nvGrpSpPr>
        <p:grpSpPr>
          <a:xfrm>
            <a:off x="1155600" y="533520"/>
            <a:ext cx="3899160" cy="2222280"/>
            <a:chOff x="1155600" y="533520"/>
            <a:chExt cx="3899160" cy="2222280"/>
          </a:xfrm>
        </p:grpSpPr>
        <p:pic>
          <p:nvPicPr>
            <p:cNvPr id="306" name="Freeform 6" descr=""/>
            <p:cNvPicPr/>
            <p:nvPr/>
          </p:nvPicPr>
          <p:blipFill>
            <a:blip r:embed="rId2"/>
            <a:stretch/>
          </p:blipFill>
          <p:spPr>
            <a:xfrm>
              <a:off x="1155600" y="533520"/>
              <a:ext cx="3899160" cy="22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1173240" y="539640"/>
              <a:ext cx="3875040" cy="21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E0E37C-9929-42BE-A3C6-8029969558B2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4244760" y="7310520"/>
            <a:ext cx="1068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644400" y="7310520"/>
            <a:ext cx="36007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531324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615C54-8481-4A0D-B96D-9F1152E84839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73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PPT file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3-28T12:56:11Z</dcterms:created>
  <dc:creator>Johannes Nussbaum</dc:creator>
  <dc:description/>
  <dc:language>en-US</dc:language>
  <cp:lastModifiedBy>Johannes Nussbaum</cp:lastModifiedBy>
  <dcterms:modified xsi:type="dcterms:W3CDTF">2022-08-10T13:13:30Z</dcterms:modified>
  <cp:revision>18</cp:revision>
  <dc:subject/>
  <dc:title>DaSCH,  Swiss National Data &amp; Service Center for the Humanities </dc:title>
</cp:coreProperties>
</file>