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</p:sldIdLst>
  <p:sldSz cx="13320713" cy="8297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E30B-12DB-4C0C-935E-1DC76DC60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EC50-968E-465C-A48C-89097E0A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694E3A-D8BA-4EEF-BAD3-56C2E45E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B3A8D-1884-4E44-9F4D-62A3CC7C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C671F-1B57-424F-AAD1-305BE32B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000B5-2629-4100-828E-3AAFC4B9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1DD34-4673-40B0-A82B-C46F285D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A1BCD1-A193-456D-8659-DBE6DB4A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A339A-8A6B-4B06-8B65-C5890206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C51E36-4F51-47AA-A06C-995E0C353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9B62E-FD32-4D85-8A08-6D8F68E64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D032B0-263B-42CC-B2BA-D00C9C1E4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273D-6134-485F-87E9-65C329B3E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8DB3BF-B00F-49D8-83E2-B8AF087D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8B69DD-63C7-446F-9CF9-8CA68A9D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06C754-E726-4B8A-87B1-48C8D164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C8ACBB-67A8-411C-96DB-3B53052F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110949-49A4-4542-827C-0E5FC512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D61712-236B-400A-A3A2-8E7909EF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4151DB-A3A3-4F5B-842F-AA55C5E8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4C768-DF2A-4ACF-B15E-73B911DB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517F24-6EA8-4F54-9327-963691CA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594E61-6980-432E-A597-20E0342FA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26B3-8AFC-45A5-945A-6FA72CF32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66764-6E31-4002-836E-D2C2C1E69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A0612-B227-463D-8C20-54D39AEB4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FE46C-30D4-470F-A55F-C5B96993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DADF6-A70A-47B6-BC98-6B4AB233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CB1A0-5CE5-47C8-A023-DBC42C04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FDDB1-308B-4162-B27C-03F72C13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44F75-06E6-4BBB-80B3-B7C3512A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B8169-4C49-4F86-A5F7-FC281E08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188FC1-26CB-48B9-AE33-8B2A6816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0DDFA-925F-4960-9F0E-78573BA2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80A8-2B59-43F3-8F67-6EC5BBBCD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F7B24-56C0-4B36-AD65-4D2B24CC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1E0A4-6D99-4112-963D-44EED12EF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D4BC86-D792-477D-82F8-4C47966CD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431560-F905-4006-94DC-763A00151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C88D69-6A4C-43C2-8288-100CAD75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5D636E-9814-4F31-8C04-D9238E8B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86849-5971-4C87-B4BA-EC69FD83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FA2924-9CD4-4B25-8A73-237E7C72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B6A74-4DC7-4B94-B5AE-217C8A3A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043752-1763-4701-837F-A123A08F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EFCF-7FDD-4A1C-A719-D2057096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DAFFA8-95AB-4598-A24D-1984297C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34E7E5-1C14-405F-AE90-B12BC72A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599786-D865-4893-BF53-EE223FF7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C1EE24-7B20-4E53-A888-35FFF0A07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457466-59D2-44B7-8178-7E584F907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CB4383-7510-4D71-9D48-CFAAD2656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8F0627-966D-4BF2-A314-8FC05E7B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6B0CD9-4F9A-4C03-ADDC-7463AEA0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2E897B-C027-4047-BC48-06F6E452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A4BE28-0E4E-4AF3-90A5-8837922D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A1F6-B4E7-40D4-8545-A2E4AAA1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25EEE4-11B4-4826-9C9B-F10363BD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C58E9E-DF8A-49C6-8482-C58D0282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814A99-6B07-4331-BCBC-72BB48A0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1E441B-1B31-4A58-B4E6-F2301F7C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82E3E5-42E7-49EA-816A-07B50CB3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F27BDD-6A0F-4E8B-8016-2AF6E2457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4B845C-14A4-4732-872C-00F52E478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3CD4-9032-4848-BDD6-C3A9F0E9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C413-D454-4DFA-9A71-496F2FE2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EE38-3663-44D0-A860-DD564CAE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B534-8CF0-418A-9EE9-4CF39972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0E85-00CE-4A49-A810-F2237436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A6CF-12A2-43EC-985E-B6147F38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9214-63D8-4B07-A101-86578DF1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82C6-DCD2-43A3-BE1E-75D33ACE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C13D-8B7D-4CCB-A081-AF4CF65F0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8CBB-9BA9-45B9-BFC0-3CFDCCE2D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1602F-B1A8-4C0C-9775-47C17DE82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2C77C-E570-4A33-AE15-89B60776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56031-44F0-404F-B7B7-26B294E9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1C4A3-D748-4386-8CA6-62D3AF16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131CF-C1C0-4E5A-A42C-2FD4EDDB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AB13-BD36-49FF-BAAD-334F75EB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29916-E7B2-4165-BC12-52345B74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0099C-5ADE-4511-A8A3-D002DE1E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D28B7-C2BE-467C-AF61-E4EC12AD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72C06-7A5F-41E7-9604-9616FED4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6089E-8D99-4596-A33F-E352419A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C8AC7-061D-452B-8AFE-D5B55DDC6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36A1B-A76A-4918-9B36-D65E22143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76A75-A759-40AE-8B47-288F718A1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67768-958B-4752-B227-AF903AD2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80AC5-9699-4540-90BE-0E2AFDDA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4C23-F8ED-48D3-9FFF-4F22FAF7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24A76-2CBF-449D-949E-AD47360B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1679D-DE5B-41F7-A066-0724CDDF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113CF-D7DD-4D28-9020-7B281D28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36D14-1B6E-4CBF-A121-25ACA3D6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9F078-E866-4B28-9415-0AC0D428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5A624-02ED-40ED-B2C9-0A81318F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D5022-170B-4019-B474-1BEE990F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28619-3467-4769-8C56-AA64CAC13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0B98A-9560-40CD-92D5-A3AB96FCF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06CB1-3F5C-4958-8554-2CE6C3529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4C13-F081-4B8B-8DDF-5331905B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7DCC9-FFB6-471B-89A8-2569EC05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F1748-3BAA-42BC-831C-2972D9F3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220F1-1D2C-4964-B5AB-F7B630DE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9263E-80AF-49A4-B4DA-94F82A0D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AC3FC-9EE6-4D49-836F-FD137197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148DB-05C8-4F0D-9DBD-226233C2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4CE03-E98A-42A8-B9A3-FFAC9380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74C6D-E6CC-41B5-B9D1-4CFF2C35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7EEAA-88EB-4513-9899-1909B02B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769A4-7EC8-472A-94EA-FEF67A4D5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02CC-F62F-41A4-AA48-7D2F8BE4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3FC60-ABB9-4043-95DF-CC9C2C613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3E2E8-9FE5-408D-B54A-E7FDD424D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714EA-188A-436C-9BCD-1B6CE358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FB2B5-8637-45DF-8D67-C9DB40C9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15087-121A-4DCB-94AF-992FFA37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DC9CA-5CB0-4932-BA28-9ADACFE6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531C1-8C7B-4404-B637-CB8143CC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573CF-EECA-4910-AFBD-61A3090A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512FC-A1AD-4F53-AD50-9121CBC7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4A235-A41C-4DE8-8191-FE81053E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8CEA-D569-4C79-ACD9-B5F4C805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E7560-33AD-4F20-9B65-731EBF1B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702F6-951A-4898-AA68-024E4D9C7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EA892-0220-47CE-8DFD-545842493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D5855-0053-4B25-A86D-99FFB3FB8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D6745-05C1-4A73-9EED-BD916672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42CB4-E9E9-4CB2-BF8A-ACCFB6CE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AEF9D-C430-461A-858D-2115BE67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896DA-997A-4790-A71D-AE12EBDE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7BBF8-1090-4592-8A57-262FCEA0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58F65-90FE-4EB3-9983-E1C9DA45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1EE1-397A-4BBA-9BB3-0BF8731D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A42CE-EB5C-489B-BA47-F8C718C0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E8BB0-0D38-4F01-B26E-3D0C144E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9D748-377F-4489-A4BB-893B2FC5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428CB-6D18-44FB-B320-36A3E5FF9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3A872-D246-41F3-8044-C1DA4855C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586E6-2DF3-42B2-8A4D-1CF5B9B61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AE8F7-4A21-4546-AFD7-16E3B001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8D9CB-580E-4BD9-8724-DD3C422C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BB70A-6DB3-431F-9D29-6E720B06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B3D2F-BFB8-4DB9-8697-6D59B9C7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8DA8-19AD-4D6D-9127-4C7B1AC7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9701F-4FF2-44DE-AACD-C6993E56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9AC42-60F1-4E67-B531-115A9BCA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975B9-4FD5-49A1-8D71-FE2F6E54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EF7C2-73A4-4894-9702-ADFBD4A4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1B677-2E94-4E70-849F-D2A44858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090A9-FA26-47E7-B02C-AE36278C0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E61BD-DF32-46E7-8AE2-DEBE530D7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D3260A-53C4-4FEC-B046-9E3E8A7B0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9E425-8C90-40B9-B4BF-579EF378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6F6FC9-8EF1-470D-8EB8-CFB1C48A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5D3844-960C-45B0-89BA-C11F6A86D565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Freeform 6"/>
          <p:cNvGrpSpPr/>
          <p:nvPr/>
        </p:nvGrpSpPr>
        <p:grpSpPr>
          <a:xfrm>
            <a:off x="673200" y="1295280"/>
            <a:ext cx="6946920" cy="3949920"/>
            <a:chOff x="673200" y="1295280"/>
            <a:chExt cx="6946920" cy="3949920"/>
          </a:xfrm>
        </p:grpSpPr>
        <p:pic>
          <p:nvPicPr>
            <p:cNvPr id="391" name="Freeform 6" descr=""/>
            <p:cNvPicPr/>
            <p:nvPr/>
          </p:nvPicPr>
          <p:blipFill>
            <a:blip r:embed="rId2"/>
            <a:stretch/>
          </p:blipFill>
          <p:spPr>
            <a:xfrm>
              <a:off x="673200" y="1295280"/>
              <a:ext cx="6946920" cy="394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690480" y="1308240"/>
              <a:ext cx="6918480" cy="39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A7EC51-54ED-476E-920D-78915F02F894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Freeform 6"/>
          <p:cNvGrpSpPr/>
          <p:nvPr/>
        </p:nvGrpSpPr>
        <p:grpSpPr>
          <a:xfrm>
            <a:off x="1231920" y="2755800"/>
            <a:ext cx="5371920" cy="3048120"/>
            <a:chOff x="1231920" y="2755800"/>
            <a:chExt cx="5371920" cy="3048120"/>
          </a:xfrm>
        </p:grpSpPr>
        <p:pic>
          <p:nvPicPr>
            <p:cNvPr id="435" name="Freeform 6" descr=""/>
            <p:cNvPicPr/>
            <p:nvPr/>
          </p:nvPicPr>
          <p:blipFill>
            <a:blip r:embed="rId2"/>
            <a:stretch/>
          </p:blipFill>
          <p:spPr>
            <a:xfrm>
              <a:off x="1231920" y="2755800"/>
              <a:ext cx="537192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1246320" y="2766960"/>
              <a:ext cx="5348160" cy="30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CEEF80-D45A-4DE4-AC2E-44487E5AE1AC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479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3D2185-168C-42B1-A971-2508E49F01EF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Freeform 6"/>
          <p:cNvGrpSpPr/>
          <p:nvPr/>
        </p:nvGrpSpPr>
        <p:grpSpPr>
          <a:xfrm>
            <a:off x="8369280" y="533520"/>
            <a:ext cx="4965840" cy="6565680"/>
            <a:chOff x="8369280" y="533520"/>
            <a:chExt cx="4965840" cy="6565680"/>
          </a:xfrm>
        </p:grpSpPr>
        <p:pic>
          <p:nvPicPr>
            <p:cNvPr id="523" name="Freeform 6" descr=""/>
            <p:cNvPicPr/>
            <p:nvPr/>
          </p:nvPicPr>
          <p:blipFill>
            <a:blip r:embed="rId2"/>
            <a:stretch/>
          </p:blipFill>
          <p:spPr>
            <a:xfrm>
              <a:off x="8369280" y="533520"/>
              <a:ext cx="4965840" cy="65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8380440" y="539640"/>
              <a:ext cx="4940280" cy="65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5AF81B-0F94-479F-9045-72FD048769B0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reeform 6"/>
          <p:cNvGrpSpPr/>
          <p:nvPr/>
        </p:nvGrpSpPr>
        <p:grpSpPr>
          <a:xfrm>
            <a:off x="-12600" y="-12600"/>
            <a:ext cx="13347720" cy="6311880"/>
            <a:chOff x="-12600" y="-12600"/>
            <a:chExt cx="13347720" cy="6311880"/>
          </a:xfrm>
        </p:grpSpPr>
        <p:pic>
          <p:nvPicPr>
            <p:cNvPr id="4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1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-324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2BD4B9-B78D-43C7-B680-8E55AB399A1F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86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4389A1-DCE2-4654-89A8-90FDC60F50D0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Freeform 7"/>
          <p:cNvGrpSpPr/>
          <p:nvPr/>
        </p:nvGrpSpPr>
        <p:grpSpPr>
          <a:xfrm>
            <a:off x="-12600" y="-12600"/>
            <a:ext cx="13347720" cy="6324480"/>
            <a:chOff x="-12600" y="-12600"/>
            <a:chExt cx="13347720" cy="6324480"/>
          </a:xfrm>
        </p:grpSpPr>
        <p:pic>
          <p:nvPicPr>
            <p:cNvPr id="130" name="Freeform 7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0" y="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DEF8CE-BA1F-4CE3-B6F2-FCD9C469C06F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174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87A1A2-C4BA-4D8A-9262-648B45DBE3C0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18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822BDC-D10A-4ABF-A35F-7CDF387BBFBC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6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BF877F-F799-47CB-8E2D-BD668756BA20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Freeform 6"/>
          <p:cNvGrpSpPr/>
          <p:nvPr/>
        </p:nvGrpSpPr>
        <p:grpSpPr>
          <a:xfrm>
            <a:off x="1155600" y="533520"/>
            <a:ext cx="3899160" cy="2222280"/>
            <a:chOff x="1155600" y="533520"/>
            <a:chExt cx="3899160" cy="2222280"/>
          </a:xfrm>
        </p:grpSpPr>
        <p:pic>
          <p:nvPicPr>
            <p:cNvPr id="306" name="Freeform 6" descr=""/>
            <p:cNvPicPr/>
            <p:nvPr/>
          </p:nvPicPr>
          <p:blipFill>
            <a:blip r:embed="rId2"/>
            <a:stretch/>
          </p:blipFill>
          <p:spPr>
            <a:xfrm>
              <a:off x="1155600" y="533520"/>
              <a:ext cx="3899160" cy="22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173240" y="539640"/>
              <a:ext cx="387504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79E2E4-4C28-4E21-8551-95FF21A70B0A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4244760" y="7310520"/>
            <a:ext cx="106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644400" y="7310520"/>
            <a:ext cx="36007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531324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DDED85-92CE-4A10-AAF0-3FE48AF481E7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73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PPT file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8T12:56:11Z</dcterms:created>
  <dc:creator>Johannes Nussbaum</dc:creator>
  <dc:description/>
  <dc:language>en-US</dc:language>
  <cp:lastModifiedBy>Johannes Nussbaum</cp:lastModifiedBy>
  <dcterms:modified xsi:type="dcterms:W3CDTF">2022-08-10T13:13:30Z</dcterms:modified>
  <cp:revision>18</cp:revision>
  <dc:subject/>
  <dc:title>DaSCH,  Swiss National Data &amp; Service Center for the Humanities </dc:title>
</cp:coreProperties>
</file>