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5406840"/>
            <a:ext cx="50799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83200" y="8969400"/>
            <a:ext cx="876240" cy="957240"/>
          </a:xfrm>
          <a:custGeom>
            <a:avLst/>
            <a:gdLst/>
            <a:ahLst/>
            <a:rect l="l" t="t" r="r" b="b"/>
            <a:pathLst>
              <a:path w="2433" h="2658">
                <a:moveTo>
                  <a:pt x="0" y="2656"/>
                </a:moveTo>
                <a:lnTo>
                  <a:pt x="2431" y="0"/>
                </a:lnTo>
                <a:lnTo>
                  <a:pt x="2432" y="2657"/>
                </a:lnTo>
                <a:lnTo>
                  <a:pt x="0" y="26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2520" y="9275760"/>
            <a:ext cx="468000" cy="48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940000">
            <a:off x="5989320" y="9374040"/>
            <a:ext cx="1006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6209-39F0-4F78-BC54-21F265B98024}" type="slidenum">
              <a:rPr b="0" lang="en-GB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230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2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230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20720" y="-189360"/>
            <a:ext cx="8996400" cy="50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78920" y="6659640"/>
            <a:ext cx="90000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0720" y="-189360"/>
            <a:ext cx="89964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buClr>
                <a:srgbClr val="000000"/>
              </a:buClr>
              <a:buSzPct val="75000"/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buClr>
                <a:srgbClr val="000000"/>
              </a:buClr>
              <a:buFont typeface="Symbol" charset="2"/>
              <a:buChar char="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21000000">
            <a:off x="9048240" y="7078320"/>
            <a:ext cx="10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F07B-EE68-4335-955F-F4B36464A236}" type="slidenum">
              <a:rPr b="0" lang="en-GB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00360" y="1440000"/>
            <a:ext cx="6257880" cy="58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79640" y="3525840"/>
            <a:ext cx="642924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79640" y="2297160"/>
            <a:ext cx="808668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881360" y="6119640"/>
            <a:ext cx="5859360" cy="2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811160"/>
            <a:ext cx="728676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95720" y="1782720"/>
            <a:ext cx="364464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52640" y="857160"/>
            <a:ext cx="668664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200" y="1979640"/>
            <a:ext cx="8632800" cy="417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73360" y="1079640"/>
            <a:ext cx="668628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90880" y="1903320"/>
            <a:ext cx="4176720" cy="380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73360" y="900000"/>
            <a:ext cx="66862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22560" y="1954080"/>
            <a:ext cx="4176720" cy="38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19280" y="874800"/>
            <a:ext cx="668664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73360" y="720720"/>
            <a:ext cx="66862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60720" y="1608120"/>
            <a:ext cx="5759280" cy="509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