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</p:sldIdLst>
  <p:sldSz cx="13320713" cy="8297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D3C5-CB9D-4153-99B1-C8BED82A0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8212-6FD9-4F05-A35B-5CD210E6E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843B1-4B7F-4407-8479-268973907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24B67-51A0-4823-BD20-58B925169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F0AEBC-E66A-43D1-B588-8BDFAEAB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A1FD3-B240-4E11-BA6D-6A88A1A4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73AD8B-B493-4344-8A31-D5436FFCD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E2D13C-FC10-483C-9E35-DD911CF4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B5074-3F3C-4DA9-A27D-C1CF5D422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676744-D0FB-4888-80F9-549363241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C6BA20-C1BC-4C03-AB69-9AA81E4EF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3809EB-6F94-4107-A941-FE8A8DCD8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A400-7D61-469B-838F-8CF302835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D62812-1409-42A5-870A-9D8370A1B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6984CC-41C4-4D49-BD6E-2C0A6C7BE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47975-FF62-4420-9034-BFFAB892E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563E6C-57E2-4BF0-AD69-92F54DD8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D0B82-1937-4796-9BF0-B035C5994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31817A-CEAD-403E-B5FC-7045E51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FFD6A8-D16C-4611-93FA-D027B24E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2F2BC-A724-4D69-AD70-2009DD2D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A01AAF-EC55-4228-9BD5-385E5C1A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95E23-024E-4E70-A50F-5EC3675FD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6309-89A0-4DCF-85D7-C4A5AE45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5D5976-E686-4FC8-A760-86D5C7FD9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C8BD8-5DD1-4506-862A-037159771A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19C6C1-C86F-4BE1-B62C-285349A74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61A2A-1EA1-43A9-AAA8-EE09E1A38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A7221F-2B48-4CB9-A32A-9FBAC878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CD4D6E-E240-4223-85AA-A21D7E9ED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AA005-E81A-4972-B9D9-DFB7EA187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44112B-7464-4524-8DB3-0F6FFD150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6B36FC-144C-4DE4-A46C-56B31BB4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85AACB-56F3-4D36-BA9A-A92D1E84C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666E-4F52-4BDC-B1A7-40466E4E0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C90699-714C-4BFE-8A46-C4D771D20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583BDE-8124-44EF-BDA2-8C7C9DF6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AE341-DD61-485D-9B89-7B1B70332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9CCA47-E5A0-46E8-BE5A-5447D07E2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E22344-A400-47E6-A1EF-25F798AF5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791A4D-BF0B-4BBA-960C-CDC3957D4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B1D128-2834-44F9-A031-65E5308C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4679A9-F262-450F-B110-15EC504DF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43E8DB-3381-4567-9889-10FDB9EE0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0C0E3-D2C6-4470-BF8D-59BF30079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7F60-E2B9-4D98-BE73-49315D88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8E26E-A4D6-4E72-A563-6058ECDB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B92079-1FD4-4C52-93E5-41889A89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B9A55E-2D30-46DD-BED8-E2C9A2BBE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2B2531-E663-4084-9415-207F6155F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3E8D68-0947-4FFD-8031-A55B4CD1B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F7EB5D-FCE9-46E8-8C5E-1FD46D01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583C29-6CD9-4233-8EDA-82C6D236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C9C3E2-5E2D-46A4-A6F7-6859E4A46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E784C-FCE2-416B-A239-A75B99437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FCD46-535A-4A61-B1F5-6B2E44062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F3A8E-7D1B-420D-8BA9-0FE0AA0C8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099791-72DF-46AF-A730-CAE11F90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A79C45-8679-4347-8983-9DBF4254C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4E8D0F-5AC6-42E1-8F53-F58BF4CB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CA7848-3EC2-461E-A696-06235333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84673-CDC6-452E-9B9A-255E3049D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D51E81-3241-49A2-BA7F-D981C71DE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6884B9-70AF-4340-A6F7-8F380A5B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4062-70A5-4693-934C-63081D31B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6FCE-EA81-43BF-B779-D66EA3058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25A06-6CE2-4C86-BDE2-D17E600A8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F09B6-109F-4568-8A2C-DAE46360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090-E040-4271-8D25-129BB3C18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8118-2C1D-4EDE-A486-821379F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4C79-DD56-463B-93DA-86C7C8F89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9559D-1B0A-4832-8EDC-D7CC87DB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0077C-8204-47B1-8581-C22432DDFE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2BD42-4552-42D6-A2A9-05D7C14B3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BA6F9-91A9-4570-BC36-76BC1383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79053-F5D6-4AD7-913E-71A1A3E31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D9C6C1-56F8-4828-AC77-28C6C1A3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3E8DC-1EC9-472E-8259-35CF5A8EE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02DC91-3554-4308-BA9B-ACEE46773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F848-0E4A-432C-879D-E0FB054D8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EDF2A8-12B8-4951-953C-301FBD44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E5622F-BBAC-41CC-9204-B099152E9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856F9-1482-45C0-8BD1-A923DB86E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2D241-B322-4154-9B57-AE0C3AC7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E7D2A-C6B6-4805-9C75-779759FDA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8690F-C454-429B-BE44-8F721E3BD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4325E-BDE5-4167-B06F-5F93FF34C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65FA5-ACCC-47CE-857F-843050E7F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74F24-2FE1-4F18-953E-0C962B094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2104C4-E631-4964-8F38-C92931D0D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28E-48AA-4734-88B2-D5506CFB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2079EC-B3EE-40AD-9BFA-952BFB056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2BA1D-7262-4FE9-A537-EFEE11C9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AD883-9CA4-43FB-A26C-BCBD2B17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944B5-1CA1-41D1-BDB2-99ECD1B1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E8463-DC10-4E18-B227-5A124DCBA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2136D1-9BE7-4C8D-A424-9F859C853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24728-4B12-4287-8F8F-822952C4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9DAB89-0F96-401E-B92B-67553F53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2AD4B9-F127-4569-ACDC-0B0A8022C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760D64-21C0-4905-9E46-472DFDB1F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BF5D-A066-41DD-9BD4-F2F3DE864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3A57A-B0A4-4952-B67B-157184C3C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00604-B34E-469C-AC0D-BC74AD15A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0B30F-A5CD-4C59-B2AB-6376AC3F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064A4-EE2A-4D9E-B159-5F8D91CD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C18C19-B083-401F-9780-85074EF79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EEAA49-5562-43B3-8BF0-BC342CA2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A7CB20-CC24-4104-93A6-9764AAEF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81A6D7-F255-4463-B538-E56C80B22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A6264-9C5C-4D83-8E3F-5E703931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2C2C1B-760C-428F-812D-5E6DF3719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6BAF-A46B-44AF-A872-928D1B60A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B38636-A423-44FB-8BC9-1A1A4935B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C9926D-A374-43A2-97E9-3DC3E8466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501CB-1ADE-402E-8B61-2CDE2583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1CA07-3447-442B-8B14-8AEF427B8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190AB-F0DB-4BB5-B138-4858C53E2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427F5A-841C-41B5-AB5C-B0541FBD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88F65B-658E-4AA7-AF53-FEC0F0C7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F037D6-F4EA-46CA-B1B7-DA63689B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B74C5A-1520-493E-999A-242CFF419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E5271-E977-4AE7-94F0-2C3D5951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51CF-D887-42D1-9F39-E29054D4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85EAF8-83E9-4AFF-97BE-D81205314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150360-70CA-4074-84E1-6E2D12A02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761B7F-2030-4622-818B-0E9F390D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A1A58-53F9-4767-BAE7-26A5BAB15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8EF54F-F1F3-46D1-97B7-329587302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AF6857-F09D-4F8C-B028-FEC6B70A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0E0FB5-0CA2-41F3-AC8C-3938FB395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149EF2-A4F5-420E-B426-0C0D6E39A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5FF98F-0EE8-4913-91FD-B9F028B04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3CBEA5-8690-42B8-865C-CB05FF49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7A57-ECEF-4E39-BCEC-8291D329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9E55E-8A8A-4D4D-B520-FCD77185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D75D7F-F403-4209-8381-92C7F806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BC75DC-6F17-4F61-ACB4-989BAF2E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C550F8-6BE9-40A3-A335-1EC810D5E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0840B4-6F2E-47B9-922E-24FCA956D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38921C-21D0-48FC-9E0E-6645DFDD9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17D047-5AEE-46EA-B7EF-3CCD3ED0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D30744-7BD0-449F-89A0-80EA199E5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2E35FF-DEBE-46C2-9D1C-654955520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3B6D3-8DE9-4816-9567-A2975645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F16C-1E6E-4044-91F6-E7AB1406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84160" y="541080"/>
            <a:ext cx="11552400" cy="54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76"/>
              </a:spcBef>
              <a:spcAft>
                <a:spcPts val="649"/>
              </a:spcAft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7599CA-2F63-4248-8EAC-9423BFE84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E56870-87F4-4461-8AE6-76CFBC63F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9FC56F-E9C1-47C3-AE0A-51423019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4B3C94-67C0-4880-883A-3825DF7CF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83800" y="4964760"/>
            <a:ext cx="1154268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B85D5-101B-44D2-89D5-C4C0F9B0E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798240" y="2642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8380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6798240" y="4964760"/>
            <a:ext cx="563256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01C6C6-20FE-4FB5-89C5-4217E009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8656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689680" y="2642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8380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478656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8689680" y="4964760"/>
            <a:ext cx="3716640" cy="212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19C0F-B73F-48D9-87F6-82BA045F1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D5EF40-E5E0-42A5-948A-F7083C0F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76"/>
              </a:spcBef>
              <a:spcAft>
                <a:spcPts val="649"/>
              </a:spcAft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BC55CF-40AE-4BF8-8A41-E182A9889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76"/>
              </a:spcBef>
              <a:spcAft>
                <a:spcPts val="649"/>
              </a:spcAft>
              <a:buNone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94C337-F1D9-4CF8-85BE-B82BB2583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C736B1-87A6-4068-84F5-7BD5C1A036D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673200" y="1295280"/>
            <a:ext cx="6946920" cy="3949920"/>
            <a:chOff x="673200" y="1295280"/>
            <a:chExt cx="6946920" cy="394992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673200" y="1295280"/>
              <a:ext cx="6946920" cy="394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690480" y="1308240"/>
              <a:ext cx="6918480" cy="39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C51AFF-9FBA-4987-A889-BEF874A7DC25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1231920" y="2755800"/>
            <a:ext cx="5371920" cy="3048120"/>
            <a:chOff x="1231920" y="2755800"/>
            <a:chExt cx="5371920" cy="304812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1231920" y="2755800"/>
              <a:ext cx="537192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1246320" y="2766960"/>
              <a:ext cx="5348160" cy="302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ED6FC4-1945-4338-8AE6-40F959152AE1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60D34E-AD1B-4156-B547-F198C7FDBCE8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8369280" y="533520"/>
            <a:ext cx="4965840" cy="6565680"/>
            <a:chOff x="8369280" y="533520"/>
            <a:chExt cx="4965840" cy="65656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8369280" y="533520"/>
              <a:ext cx="4965840" cy="65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8380440" y="539640"/>
              <a:ext cx="4940280" cy="65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 type="dt" idx="3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 type="ftr" idx="3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 type="sldNum" idx="3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7CAAC2-99D5-4E70-9721-6F6480FE43BB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12600" y="-12600"/>
            <a:ext cx="13347720" cy="6311880"/>
            <a:chOff x="-12600" y="-12600"/>
            <a:chExt cx="13347720" cy="631188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11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7147C98-533D-478E-988F-9474BA624549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4F0BC7-818E-4CCA-96A3-0DC78955C5B0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12600" y="-12600"/>
            <a:ext cx="13347720" cy="6324480"/>
            <a:chOff x="-12600" y="-12600"/>
            <a:chExt cx="13347720" cy="632448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632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13320720" cy="629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7466EC-5EA9-4F24-AF13-41CC7A537C2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1ADECE-16F0-4E5C-B303-C76E27C68026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EA0D103-EAB3-4854-87D8-A0E54899128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12600" y="-12600"/>
            <a:ext cx="13347720" cy="2666880"/>
            <a:chOff x="-12600" y="-12600"/>
            <a:chExt cx="13347720" cy="266688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12600" y="-12600"/>
              <a:ext cx="13347720" cy="26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13320720" cy="264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011C50-E79D-4EA0-8D6C-865A4482391C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1155600" y="533520"/>
            <a:ext cx="3899160" cy="2222280"/>
            <a:chOff x="1155600" y="533520"/>
            <a:chExt cx="3899160" cy="222228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1155600" y="533520"/>
              <a:ext cx="3899160" cy="22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173240" y="539640"/>
              <a:ext cx="3875040" cy="21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10197720" y="7310520"/>
            <a:ext cx="14684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93560" y="7310520"/>
            <a:ext cx="944424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1166652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1A2E48-7206-4B88-8A2C-5866ADCEBECE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83800" y="2642760"/>
            <a:ext cx="11542680" cy="4444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74760" indent="-37476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1" marL="811080" indent="-31104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2" marL="124776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3" marL="174780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4" marL="2247840" indent="-249120">
              <a:spcBef>
                <a:spcPts val="476"/>
              </a:spcBef>
              <a:spcAft>
                <a:spcPts val="64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5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lvl="6" marL="2247840" indent="-249120">
              <a:spcBef>
                <a:spcPts val="476"/>
              </a:spcBef>
              <a:spcAft>
                <a:spcPts val="649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4244760" y="7310520"/>
            <a:ext cx="10681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644400" y="7310520"/>
            <a:ext cx="360072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5313240" y="7157880"/>
            <a:ext cx="1160640" cy="5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1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79AB41-EF09-4F4E-98B6-48D2FFE55B33}" type="slidenum">
              <a:rPr b="0" lang="en-US" sz="21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173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84160" y="541080"/>
            <a:ext cx="11552400" cy="11732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98600"/>
                <a:tab algn="l" pos="996840"/>
                <a:tab algn="l" pos="1495440"/>
                <a:tab algn="l" pos="1994040"/>
                <a:tab algn="l" pos="2492280"/>
                <a:tab algn="l" pos="2990880"/>
                <a:tab algn="l" pos="3489480"/>
                <a:tab algn="l" pos="3987720"/>
                <a:tab algn="l" pos="4486320"/>
                <a:tab algn="l" pos="4984920"/>
                <a:tab algn="l" pos="5483160"/>
                <a:tab algn="l" pos="5981760"/>
                <a:tab algn="l" pos="6480000"/>
                <a:tab algn="l" pos="6978600"/>
                <a:tab algn="l" pos="7477200"/>
                <a:tab algn="l" pos="7975440"/>
                <a:tab algn="l" pos="8474040"/>
                <a:tab algn="l" pos="8972640"/>
                <a:tab algn="l" pos="9470880"/>
                <a:tab algn="l" pos="9969480"/>
              </a:tabLst>
            </a:pPr>
            <a:r>
              <a:rPr b="1" lang="en-US" sz="4300" spc="-1" strike="noStrike">
                <a:solidFill>
                  <a:srgbClr val="fefefe"/>
                </a:solidFill>
                <a:latin typeface="Century Gothic"/>
              </a:rPr>
              <a:t>PPT file</a:t>
            </a:r>
            <a:endParaRPr b="1" lang="en-US" sz="4300" spc="-1" strike="noStrike">
              <a:solidFill>
                <a:srgbClr val="fefefe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3-28T12:56:11Z</dcterms:created>
  <dc:creator>Johannes Nussbaum</dc:creator>
  <dc:description/>
  <dc:language>en-US</dc:language>
  <cp:lastModifiedBy>Johannes Nussbaum</cp:lastModifiedBy>
  <dcterms:modified xsi:type="dcterms:W3CDTF">2022-08-10T13:13:30Z</dcterms:modified>
  <cp:revision>18</cp:revision>
  <dc:subject/>
  <dc:title>DaSCH,  Swiss National Data &amp; Service Center for the Humanities </dc:title>
</cp:coreProperties>
</file>