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2689276"/>
        <c:axId val="71434002"/>
      </c:barChart>
      <c:catAx>
        <c:axId val="5268927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1434002"/>
        <c:crosses val="autoZero"/>
        <c:auto val="1"/>
        <c:lblAlgn val="ctr"/>
        <c:lblOffset val="100"/>
        <c:noMultiLvlLbl val="0"/>
      </c:catAx>
      <c:valAx>
        <c:axId val="7143400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268927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AEF85-9008-4626-AA4E-111F1C69A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4E7D4-80C0-4D00-9A43-0661D662D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4D8DA-56F5-4BD1-B673-91E8B7A77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04BBB-520F-4CA9-9466-EE397EC11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883763-2A19-4063-9FEF-67B312759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013DA-1CE5-4F00-A2A1-8D07BD452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E36F4-7E0F-4D3D-B7FD-0C7B6440B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6AA92-4511-4D23-8BA5-62AEC8C5C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15962-DD69-46BC-92CD-C52F8EE49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EF60B-2C43-41EF-937D-D26709999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8DF49-9F5F-4DC6-A2E2-04A822FF7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D2D78-B66C-406E-9E95-F9D677FFE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A00F9-472A-4B87-8CE1-A88A12A59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F6491-950D-4523-B910-77A145490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1BB0C-9707-4EE1-ADD2-C275AD3CE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06A264-2DDC-481B-A301-81A2D1134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3BA03-1D9A-410F-AD7A-A7CB90F8C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F51C1-95F7-46EE-887A-2614F3203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BBFC4-4D2E-4B86-A3CD-940C33AD5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428D5-284B-4DD1-9284-BE9BBBA5C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C594A-4ABA-41C9-A775-4704A6986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C5AB8-D5D6-46D2-84AE-54B9B062D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0A17-76C0-4F4A-A2D5-CB72E457C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6A8BF-E1F8-423B-A51A-36071402F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D8FB50-5F37-425C-B475-B3F201D2BB1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AE1468-1195-487E-A91F-D108CF55B1A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