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90AE-2423-44CF-8D20-55CA5EBFA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9178-DD3C-4E36-9825-4A940A36A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169C-CA23-4544-82D6-10F48EEC5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D762-FF2A-4413-B629-E460A0C03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42D8-8F37-4BF7-B25F-79FBF5D07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4639-3850-4F1F-B92F-9828C8868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A2B4-3F5F-4C6D-AF7C-6B9B6A75A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84A6-CEA0-453E-859D-7E92BDBF6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153F-327C-455A-959C-E4CA454C4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4E6D-AA63-4389-A364-F9ABADCAA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5DB5-AFE5-4FDE-B7C4-28E686C1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125C-945B-4F31-A98F-CE92CC9AA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306AF7-5164-4EE4-A93F-743DBF869FD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13:41:16Z</dcterms:created>
  <dc:creator>m l</dc:creator>
  <dc:description/>
  <dc:language>en-US</dc:language>
  <cp:lastModifiedBy>m l</cp:lastModifiedBy>
  <dcterms:modified xsi:type="dcterms:W3CDTF">2013-11-26T13:41:51Z</dcterms:modified>
  <cp:revision>1</cp:revision>
  <dc:subject/>
  <dc:title>title</dc:title>
</cp:coreProperties>
</file>