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</p:sldIdLst>
  <p:sldSz cx="13320713" cy="82978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AE41-3620-4114-A033-A89BAFE5C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C6B6-5706-4823-A4BF-04DF48178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E83AA9-64E2-4C0C-820A-AB838C0AB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A6B383-412E-4FC1-BB52-24A8ED296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B5D37C-1704-4630-8CC5-803A1F952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4CC5D4-F0EE-4585-A816-B3FA714D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152B7F-638D-412F-B445-1FA71BCC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FD106C-9D16-4810-9B43-4E8B99C9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6D545C-82E7-43F2-ACB3-27F04F25C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AC60FF-9735-42FB-B67F-37C7BD197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70DC19-38DB-4BC3-BE29-988B6E5BE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555CA8-7D5F-4E77-A36F-A006B7814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ECA7-D58A-40F0-81BF-8A15BDFB4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6847C4-84F1-4382-A92C-4FEE303FE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8B7C03-2984-44AC-835D-00A225FC4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1E8AA2-79E5-4454-ACC1-C5BCFB346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54AD50-E1EB-4282-BC9E-CC6BBD97E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DBA45A-8C8B-4128-9F2B-F28CB365E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DC5ADE-6934-42B9-8C28-396A50DC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F69EDD-4E0A-4D99-80CD-6772450D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9D2E5A-80C3-4E8B-AA92-6E0EA4E6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49986D-87B7-42A6-BB66-BEA418DE8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5CF0C9-DF41-4430-85A3-1D3E3EBE2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D3CB-5697-40BC-9C23-3AC9B38C6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462387-7B01-41EF-A5BB-0A5B7D616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792163-E8FD-424E-B3FD-B35CA90E2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D2BB58-B330-4DA9-9B2E-A359431E7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53A0D5-AE79-4A78-A02F-B482D1B1D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152878-97F6-43A4-AB87-FB8D9AB50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4F0C19-01FB-4FA0-ABF0-27A593EA0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D5B1D0-40FB-4537-BD59-3B50C7E04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1DAF7B-19A6-40AE-9590-B07F29D5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BBBDA7-4664-4C8C-BC9A-6F73D749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53BEF9-5E37-4E0B-AAA8-B4D497BC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737B9-FE2D-4E4E-B8F8-06DB1FC84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F4BF1D-A969-480E-A38B-8C1E02AFD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DAE20F-A69E-4A0E-AF2F-4F795AD72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9BD1F8-7148-4354-89AD-9985FDB3D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8EE067-520A-495A-8FA8-F18311615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277225-DA5F-4CF7-9DF4-52AAA3773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BEE271-2967-4027-8F0C-55BD17027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89B0C4-4BDE-4C2D-B315-25E327572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850BA5-5AF7-4541-8834-530385D8E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0D57D2-01EA-4DA0-A2CF-2B880B80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6C4D8F-DF1D-46E3-906D-4EA07533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F0EC1-1A66-4CB3-A418-D9E4855F4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F5B4AF-1391-41BF-8B85-26DE347C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F3469F-8DEC-4B64-84E4-8A240CB8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9A92FF-0124-4111-BBA8-A830D8A41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A7C20F-AF8F-4D85-952D-A6B0640AF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755A61-1F6E-4E9E-9B9A-7A96CF08A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04FD9F-C4A0-41A8-9982-38E1A8CBF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595733-1A8F-4BD5-924D-9A10F2F5E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75F537-D9BB-495F-94A8-FD83EB3D8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EFDD77-062D-4477-B17B-CBBACCF46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F5C3E9-981F-46B3-89B7-95A6C57B5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F1FB3-57B6-498A-8974-675DF91CB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D24281-5F9D-4887-9E61-0E92ECEAB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AF2A89-8305-4A1F-A499-EABF2CA5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2A3ECC-610A-4DE3-8553-75E55B2A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B6FDA9-4078-45E9-893A-3E6E8C21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5D20DA-1606-4949-8E39-DB7DD02BA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3A2F4C-D761-4FDB-A2E7-7868DFE2F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C6581C-D08A-419B-A159-9A9F82510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9302B-21B5-4918-972C-50AA55C6F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5DC84-BD5A-4701-B659-35D40A493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ECC5B-780B-466C-A4DD-4FDD7E945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ADF6E-3FB3-4C20-B651-87CA9AB5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7044-FAE9-4E52-998E-B20A999F8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36E4F-34EC-476E-ADC5-4AF15A67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92F96-C2E1-4474-9D99-4A1F394A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EBF55-AA0C-47A1-A0FC-F59009111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E15B5-2724-4CC8-B920-178435B66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D4FB3-7211-47E7-B094-5A19F670E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FB9E8-D3DB-41CF-B2DE-0AD41D488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662E2-2073-40BD-8B02-57841663C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4E06B-65CF-436E-877A-51EDE94D3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DDF86-1C8F-4B1A-B450-D86D9CBC0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2158E-00AD-487D-A028-73174566B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44B5-EBDE-49A5-9579-6D8A76617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88304-E863-449C-88A0-9C6093557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9396E-C1B0-44F3-BAD6-4498F03E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225F4-BE8E-4E57-91CB-85D63CFA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61E6D-A25C-4B46-808D-2A7E355F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EC84B-BEC8-47DE-A481-BCDC7B0C4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3DAC8-F8A8-4B21-B46C-953AF406C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2DE5C-DB20-4EB2-A797-723C07821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26BDC-4C27-4876-93B2-71A444CEC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E9742-2CA4-47D5-9768-8422A31C2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282B0-F0CA-48EA-8C64-5C239D9AE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565A-315A-4C7F-B355-DA8099C6E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4EB7F-2F3E-4BE6-B33B-A57CBE080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F11A9-8D35-41E0-BA13-36C24451A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B18D2-FD1E-4314-935D-31039242F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80007-5A84-461A-ACE8-266EAE6E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C68A6-218B-4477-9186-586518B3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44612-2759-46EE-BC5B-5F6E5889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E098E-E319-4DEC-A5A1-FD402BC54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44B7A-3941-44DA-AE5E-6EF5CED1C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B2042-0157-41E0-BEC4-8FFB9C9A1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F1F44-5DCD-43F6-9E55-47F6394D1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5846-28A2-4C95-8DAF-A05997BA2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DA768-FEB8-441E-A61D-7A89B3C78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F371B-3CAE-4CF1-8B01-81F0158AC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BF314-527C-426C-9658-01A8BBE69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DAAED-B762-4F2A-A57B-B5AA611AD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F3547-FA03-4752-AF41-51FAC5B61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ABC45-8DD7-4D7C-80DB-1BA6F48B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60851-89FA-47B4-BBF5-8EDDD665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8439E-FB32-4648-9154-49BCD277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A209A-5BE9-4172-9C6C-C1EB9816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6A1AC-27B9-4DAC-9EF5-C79A85C74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FF62-F159-4114-BCFC-8D0A562F7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AE0C5-6ECA-40F6-8695-8172840FA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088C1-2171-448D-92BC-C1F501A0E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94F15-F7D3-4D3F-A2AD-627B6D249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0467A-AD64-4398-820B-A7E9EDD54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E6305-3B5C-4C4A-8010-0668F2A02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170A0-6CE0-4DB8-9311-34879CA20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B1EF2-2947-434F-B54E-8D552245F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6CC99-E25C-4289-8A5D-81B1FB6C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26EB41-3AD9-48BF-A869-2BB7E47C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426BB-006D-47D5-AB7C-7F2AD566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CA92-1845-4DCA-B66B-1AB1EAB6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619C0-6158-437D-BACF-6487249E3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E98FC-06D2-421B-8B43-13F7987BF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CA39C-8373-42BA-9B9D-FB491E40B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DCA21-2785-48D5-B3B2-21221914C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F31DDA-AD01-48CE-96FC-2605AE714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13A98-7B4B-4935-A5C3-A405A5D3E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5374C-9A4D-42C0-8AE4-9BCF7D854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037F5F-C8FD-4E70-BA7A-BB95CBDC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B7E1AF-07FB-4430-BD34-0DD602C0F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3D9943-1C07-4D19-8D9A-CEBA3BAE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DCFC-7774-4B0C-A37C-7D303FBC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779DFC-67A1-4F69-9326-A8EB091C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2F128-6ED9-4CA9-AC47-09A8BC0F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2540C7-00FC-42DC-8CB6-5973F2E8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FFFE5D-5A18-42D4-98EF-BDF494F20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DA818-1EB4-444E-A3C0-C2725D356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5D1CDD-BB46-4DD7-B472-FF3BB2298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A3C023-94C0-4A17-9202-A6910AD1F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89873D-DB19-4740-A69D-04ACD3E59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A9FFD-0759-4016-B44A-C960D141A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5DB4F-2D8B-4CE5-80E4-E6316D13C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5A97-605E-4370-9D01-DF098418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C58E94-BEAF-4169-B60C-01CF2C1B9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FB2573-85DB-4552-B38D-CF803C23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8D9A3B-410B-409C-9F88-AE7C0DD0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FDACA9-C765-469B-946A-4EE0EE53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C84A9-BE9F-433A-93FD-41A5EC03D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C85C8E-6773-4711-B461-7F66084AD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26685F-6E5B-477B-B2E0-2A198C2E5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C2F200-8031-44BB-87CB-6F2D20375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43AC73-91B8-4F0C-9A28-9CA947506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0351E9-DA1F-468D-8E84-6FA3341FE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5BDD0E-CB9E-447A-86C1-7EC174982507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Freeform 6"/>
          <p:cNvGrpSpPr/>
          <p:nvPr/>
        </p:nvGrpSpPr>
        <p:grpSpPr>
          <a:xfrm>
            <a:off x="673200" y="1295280"/>
            <a:ext cx="6946920" cy="3949920"/>
            <a:chOff x="673200" y="1295280"/>
            <a:chExt cx="6946920" cy="3949920"/>
          </a:xfrm>
        </p:grpSpPr>
        <p:pic>
          <p:nvPicPr>
            <p:cNvPr id="391" name="Freeform 6" descr=""/>
            <p:cNvPicPr/>
            <p:nvPr/>
          </p:nvPicPr>
          <p:blipFill>
            <a:blip r:embed="rId2"/>
            <a:stretch/>
          </p:blipFill>
          <p:spPr>
            <a:xfrm>
              <a:off x="673200" y="1295280"/>
              <a:ext cx="6946920" cy="394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690480" y="1308240"/>
              <a:ext cx="6918480" cy="39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8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9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30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A4CE96-5F3B-40BE-86CC-4B61F61208A6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Freeform 6"/>
          <p:cNvGrpSpPr/>
          <p:nvPr/>
        </p:nvGrpSpPr>
        <p:grpSpPr>
          <a:xfrm>
            <a:off x="1231920" y="2755800"/>
            <a:ext cx="5371920" cy="3048120"/>
            <a:chOff x="1231920" y="2755800"/>
            <a:chExt cx="5371920" cy="3048120"/>
          </a:xfrm>
        </p:grpSpPr>
        <p:pic>
          <p:nvPicPr>
            <p:cNvPr id="435" name="Freeform 6" descr=""/>
            <p:cNvPicPr/>
            <p:nvPr/>
          </p:nvPicPr>
          <p:blipFill>
            <a:blip r:embed="rId2"/>
            <a:stretch/>
          </p:blipFill>
          <p:spPr>
            <a:xfrm>
              <a:off x="1231920" y="2755800"/>
              <a:ext cx="537192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1246320" y="2766960"/>
              <a:ext cx="5348160" cy="30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31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2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3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33A0F7-6913-4BB7-A04B-A27EA11EC8AA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8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479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4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5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6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3DE7ED-32C7-44E2-B19F-7A1E976FAA84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Freeform 6"/>
          <p:cNvGrpSpPr/>
          <p:nvPr/>
        </p:nvGrpSpPr>
        <p:grpSpPr>
          <a:xfrm>
            <a:off x="8369280" y="533520"/>
            <a:ext cx="4965840" cy="6565680"/>
            <a:chOff x="8369280" y="533520"/>
            <a:chExt cx="4965840" cy="6565680"/>
          </a:xfrm>
        </p:grpSpPr>
        <p:pic>
          <p:nvPicPr>
            <p:cNvPr id="523" name="Freeform 6" descr=""/>
            <p:cNvPicPr/>
            <p:nvPr/>
          </p:nvPicPr>
          <p:blipFill>
            <a:blip r:embed="rId2"/>
            <a:stretch/>
          </p:blipFill>
          <p:spPr>
            <a:xfrm>
              <a:off x="8369280" y="533520"/>
              <a:ext cx="4965840" cy="656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"/>
            <p:cNvSpPr/>
            <p:nvPr/>
          </p:nvSpPr>
          <p:spPr>
            <a:xfrm>
              <a:off x="8380440" y="539640"/>
              <a:ext cx="4940280" cy="65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7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8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9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236A50-32C1-4D09-ABA1-A6E7B5476FD6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Freeform 6"/>
          <p:cNvGrpSpPr/>
          <p:nvPr/>
        </p:nvGrpSpPr>
        <p:grpSpPr>
          <a:xfrm>
            <a:off x="-12600" y="-12600"/>
            <a:ext cx="13347720" cy="6311880"/>
            <a:chOff x="-12600" y="-12600"/>
            <a:chExt cx="13347720" cy="6311880"/>
          </a:xfrm>
        </p:grpSpPr>
        <p:pic>
          <p:nvPicPr>
            <p:cNvPr id="42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631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0" y="-3240"/>
              <a:ext cx="13320720" cy="62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D294BD-91B0-41F9-B607-6BDF003952DC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86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A03E02-531F-49ED-85A6-8FD9D2F3D917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Freeform 7"/>
          <p:cNvGrpSpPr/>
          <p:nvPr/>
        </p:nvGrpSpPr>
        <p:grpSpPr>
          <a:xfrm>
            <a:off x="-12600" y="-12600"/>
            <a:ext cx="13347720" cy="6324480"/>
            <a:chOff x="-12600" y="-12600"/>
            <a:chExt cx="13347720" cy="6324480"/>
          </a:xfrm>
        </p:grpSpPr>
        <p:pic>
          <p:nvPicPr>
            <p:cNvPr id="130" name="Freeform 7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632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0" y="0"/>
              <a:ext cx="13320720" cy="62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83F201-7239-4826-B162-2A88620D4092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174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2FD5B7-541A-4046-BF29-3F3F1597AA90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218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95C3F2-33C2-4406-B100-EA07136BD879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262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20DAD7-F60F-4637-83BF-A93E27E16B6F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Freeform 6"/>
          <p:cNvGrpSpPr/>
          <p:nvPr/>
        </p:nvGrpSpPr>
        <p:grpSpPr>
          <a:xfrm>
            <a:off x="1155600" y="533520"/>
            <a:ext cx="3899160" cy="2222280"/>
            <a:chOff x="1155600" y="533520"/>
            <a:chExt cx="3899160" cy="2222280"/>
          </a:xfrm>
        </p:grpSpPr>
        <p:pic>
          <p:nvPicPr>
            <p:cNvPr id="306" name="Freeform 6" descr=""/>
            <p:cNvPicPr/>
            <p:nvPr/>
          </p:nvPicPr>
          <p:blipFill>
            <a:blip r:embed="rId2"/>
            <a:stretch/>
          </p:blipFill>
          <p:spPr>
            <a:xfrm>
              <a:off x="1155600" y="533520"/>
              <a:ext cx="3899160" cy="22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1173240" y="539640"/>
              <a:ext cx="387504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A5D82A-5782-4C3C-82C2-0105C22546FC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4244760" y="7310520"/>
            <a:ext cx="1068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644400" y="7310520"/>
            <a:ext cx="36007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531324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076CC6-26B9-4FDB-BB07-9F5B0FA79062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73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PPT file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28T12:56:11Z</dcterms:created>
  <dc:creator>Johannes Nussbaum</dc:creator>
  <dc:description/>
  <dc:language>en-US</dc:language>
  <cp:lastModifiedBy>Johannes Nussbaum</cp:lastModifiedBy>
  <dcterms:modified xsi:type="dcterms:W3CDTF">2022-08-10T13:13:30Z</dcterms:modified>
  <cp:revision>18</cp:revision>
  <dc:subject/>
  <dc:title>DaSCH,  Swiss National Data &amp; Service Center for the Humanities </dc:title>
</cp:coreProperties>
</file>