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9361781"/>
        <c:axId val="43997697"/>
      </c:barChart>
      <c:catAx>
        <c:axId val="89361781"/>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3997697"/>
        <c:crosses val="autoZero"/>
        <c:auto val="1"/>
        <c:lblAlgn val="ctr"/>
        <c:lblOffset val="100"/>
        <c:noMultiLvlLbl val="0"/>
      </c:catAx>
      <c:valAx>
        <c:axId val="43997697"/>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9361781"/>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277CF-4A5B-440F-A1C3-8A9E50D2B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F3129-4B34-405A-AA29-51C366322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3F4F8-D7B4-4BF1-A47D-A2E5726C5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97B10-9618-466D-9129-2170A1F4C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33936E-3623-42B8-B8D6-AD55F04229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F9175-F6A6-4021-8691-F41224ECA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461BE6-42B7-4987-913C-3D2615265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7A451-1AD6-4355-8C7D-038571D84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8E1E0-AA2B-4449-B260-A0BC7BEC9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A6F94-B9FA-4B5E-880D-265515DA5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B851E-7017-4120-9FD2-C892D475C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8FC9F-3293-45E0-8C61-415C2B3F3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FB7D9-11A1-45C9-BB95-4EC55E72F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A01CB-6C15-4AF2-9E77-B69ED1E85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C6122-64CB-4752-97F4-9D56F37DA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66EC2-5006-4FA6-BF95-112BF2BC28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CED2B4-5E8E-4431-90D0-DF5622423E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9A962-A554-4EBD-80F0-E859620C9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487C7-100F-41E9-8A94-18B827B86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0B747-149C-43F7-9A9E-901869407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30C54-0559-43EE-B654-96921F959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DB386-95B4-4E7C-9345-C17F4AFCC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5DDAF-9EB6-448A-ABBF-2050B2632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750A6-BE08-4FA9-A3C9-893FC342A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1153E8-529D-4AD4-BA7C-5261DF804B40}"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043CF1-0AD7-4AC8-8E3B-DBA45CC83D8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