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D1C5-5AF4-4A50-B923-B97CBEC02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7789-8A7C-44B4-8922-20D6043FB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9524-69F3-4A20-8436-B87541F85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619D-CD91-440E-812C-8AFFB56F1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E95F-6F2D-42BC-9ECD-4E5B699CA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7EFD-80E8-4594-8498-D09A6454D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1B66-43EA-4421-8266-9CE281033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A43B-0F74-4D1F-B9DA-B56B0229B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DF4B-7EAB-4C04-8A58-789A8E7BB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CD10-5B03-42FB-8840-79E68921C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2CB9-01D3-4FCB-BF32-256D54274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24D5-6CE1-4BEE-94A5-3EEB8B0F3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2E29A-A9B2-455E-A7F5-C44F1FCD49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rem Ipsu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3T16:25:03Z</dcterms:created>
  <dc:creator>Michael McCandless</dc:creator>
  <dc:description/>
  <dc:language>en-US</dc:language>
  <cp:lastModifiedBy>Lukas Graf</cp:lastModifiedBy>
  <dcterms:modified xsi:type="dcterms:W3CDTF">2014-09-01T10:23:50Z</dcterms:modified>
  <cp:revision>2</cp:revision>
  <dc:subject/>
  <dc:title>Slide 1</dc:title>
</cp:coreProperties>
</file>